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wmf" ContentType="image/x-wmf"/>
  <Override PartName="/ppt/media/image194.wmf" ContentType="image/x-wmf"/>
  <Override PartName="/ppt/media/image124.wmf" ContentType="image/x-wmf"/>
  <Override PartName="/ppt/media/image57.png" ContentType="image/png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34.png" ContentType="image/png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125.png" ContentType="image/png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91.wmf" ContentType="image/x-wmf"/>
  <Override PartName="/ppt/media/image23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80.wmf" ContentType="image/x-wmf"/>
  <Override PartName="/ppt/media/image12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115.wmf" ContentType="image/x-wmf"/>
  <Override PartName="/ppt/media/image183.wmf" ContentType="image/x-wmf"/>
  <Override PartName="/ppt/media/image61.png" ContentType="image/png"/>
  <Override PartName="/ppt/media/image60.wmf" ContentType="image/x-wmf"/>
  <Override PartName="/ppt/media/image94.wmf" ContentType="image/x-wmf"/>
  <Override PartName="/ppt/media/image1.png" ContentType="image/png"/>
  <Override PartName="/ppt/media/image213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187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185.wmf" ContentType="image/x-wmf"/>
  <Override PartName="/ppt/media/image20.wmf" ContentType="image/x-wmf"/>
  <Override PartName="/ppt/media/image83.wmf" ContentType="image/x-wmf"/>
  <Override PartName="/ppt/media/image18.wmf" ContentType="image/x-wmf"/>
  <Override PartName="/ppt/media/image86.wmf" ContentType="image/x-wmf"/>
  <Override PartName="/ppt/media/image82.wmf" ContentType="image/x-wmf"/>
  <Override PartName="/ppt/media/image14.wmf" ContentType="image/x-wmf"/>
  <Override PartName="/ppt/media/image17.wmf" ContentType="image/x-wmf"/>
  <Override PartName="/ppt/media/image8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84.wmf" ContentType="image/x-wmf"/>
  <Override PartName="/ppt/media/image55.wmf" ContentType="image/x-wmf"/>
  <Override PartName="/ppt/media/image2.png" ContentType="image/png"/>
  <Override PartName="/ppt/media/image214.wmf" ContentType="image/x-wmf"/>
  <Override PartName="/ppt/media/image107.wmf" ContentType="image/x-wmf"/>
  <Override PartName="/ppt/media/image175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148.wmf" ContentType="image/x-wmf"/>
  <Override PartName="/ppt/media/image51.wmf" ContentType="image/x-wmf"/>
  <Override PartName="/ppt/media/image149.wmf" ContentType="image/x-wmf"/>
  <Override PartName="/ppt/media/image52.wmf" ContentType="image/x-wmf"/>
  <Override PartName="/ppt/media/image157.wmf" ContentType="image/x-wmf"/>
  <Override PartName="/ppt/media/image158.wmf" ContentType="image/x-wmf"/>
  <Override PartName="/ppt/media/image222.wmf" ContentType="image/x-wmf"/>
  <Override PartName="/ppt/media/image160.png" ContentType="image/png"/>
  <Override PartName="/ppt/media/image220.wmf" ContentType="image/x-wmf"/>
  <Override PartName="/ppt/media/image163.wmf" ContentType="image/x-wmf"/>
  <Override PartName="/ppt/media/image164.wmf" ContentType="image/x-wmf"/>
  <Override PartName="/ppt/media/image165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8.wmf" ContentType="image/x-wmf"/>
  <Override PartName="/ppt/media/image179.wmf" ContentType="image/x-wmf"/>
  <Override PartName="/ppt/media/image193.wmf" ContentType="image/x-wmf"/>
  <Override PartName="/ppt/media/image198.wmf" ContentType="image/x-wmf"/>
  <Override PartName="/ppt/media/image36.wmf" ContentType="image/x-wmf"/>
  <Override PartName="/ppt/media/image162.wmf" ContentType="image/x-wmf"/>
  <Override PartName="/ppt/media/image199.wmf" ContentType="image/x-wmf"/>
  <Override PartName="/ppt/media/image201.wmf" ContentType="image/x-wmf"/>
  <Override PartName="/ppt/media/image45.wmf" ContentType="image/x-wmf"/>
  <Override PartName="/ppt/media/image226.wmf" ContentType="image/x-wmf"/>
  <Override PartName="/ppt/media/image227.wmf" ContentType="image/x-wmf"/>
  <Override PartName="/ppt/media/image228.wmf" ContentType="image/x-wmf"/>
  <Override PartName="/ppt/media/image230.wmf" ContentType="image/x-wmf"/>
  <Override PartName="/ppt/media/image229.wmf" ContentType="image/x-wmf"/>
  <Override PartName="/ppt/media/image231.wmf" ContentType="image/x-wmf"/>
  <Override PartName="/ppt/media/image232.wmf" ContentType="image/x-wmf"/>
  <Override PartName="/ppt/media/image233.wmf" ContentType="image/x-wmf"/>
  <Override PartName="/ppt/media/image234.wmf" ContentType="image/x-wmf"/>
  <Override PartName="/ppt/media/image182.wmf" ContentType="image/x-wmf"/>
  <Override PartName="/ppt/media/image235.wmf" ContentType="image/x-wmf"/>
  <Override PartName="/ppt/media/image130.wmf" ContentType="image/x-wmf"/>
  <Override PartName="/ppt/media/image236.wmf" ContentType="image/x-wmf"/>
  <Override PartName="/ppt/media/image131.wmf" ContentType="image/x-wmf"/>
  <Override PartName="/ppt/media/image225.wmf" ContentType="image/x-wmf"/>
  <Override PartName="/ppt/media/image200.wmf" ContentType="image/x-wmf"/>
  <Override PartName="/ppt/media/image44.wmf" ContentType="image/x-wmf"/>
  <Override PartName="/ppt/media/image237.wmf" ContentType="image/x-wmf"/>
  <Override PartName="/ppt/media/image132.wmf" ContentType="image/x-wmf"/>
  <Override PartName="/ppt/media/image202.wmf" ContentType="image/x-wmf"/>
  <Override PartName="/ppt/media/image46.wmf" ContentType="image/x-wmf"/>
  <Override PartName="/ppt/media/image224.wmf" ContentType="image/x-wmf"/>
  <Override PartName="/ppt/media/image223.wmf" ContentType="image/x-wmf"/>
  <Override PartName="/ppt/media/image221.wmf" ContentType="image/x-wmf"/>
  <Override PartName="/ppt/media/image166.wmf" ContentType="image/x-wmf"/>
  <Override PartName="/ppt/media/image219.wmf" ContentType="image/x-wmf"/>
  <Override PartName="/ppt/media/image212.wmf" ContentType="image/x-wmf"/>
  <Override PartName="/ppt/media/image56.wmf" ContentType="image/x-wmf"/>
  <Override PartName="/ppt/media/image211.wmf" ContentType="image/x-wmf"/>
  <Override PartName="/ppt/media/image156.wmf" ContentType="image/x-wmf"/>
  <Override PartName="/ppt/media/image209.wmf" ContentType="image/x-wmf"/>
  <Override PartName="/ppt/media/image210.wmf" ContentType="image/x-wmf"/>
  <Override PartName="/ppt/media/image54.wmf" ContentType="image/x-wmf"/>
  <Override PartName="/ppt/media/image155.wmf" ContentType="image/x-wmf"/>
  <Override PartName="/ppt/media/image208.wmf" ContentType="image/x-wmf"/>
  <Override PartName="/ppt/media/image154.wmf" ContentType="image/x-wmf"/>
  <Override PartName="/ppt/media/image207.wmf" ContentType="image/x-wmf"/>
  <Override PartName="/ppt/media/image153.wmf" ContentType="image/x-wmf"/>
  <Override PartName="/ppt/media/image206.wmf" ContentType="image/x-wmf"/>
  <Override PartName="/ppt/media/image152.wmf" ContentType="image/x-wmf"/>
  <Override PartName="/ppt/media/image189.wmf" ContentType="image/x-wmf"/>
  <Override PartName="/ppt/media/image205.wmf" ContentType="image/x-wmf"/>
  <Override PartName="/ppt/media/image49.wmf" ContentType="image/x-wmf"/>
  <Override PartName="/ppt/media/image100.wmf" ContentType="image/x-wmf"/>
  <Override PartName="/ppt/media/image151.wmf" ContentType="image/x-wmf"/>
  <Override PartName="/ppt/media/image188.wmf" ContentType="image/x-wmf"/>
  <Override PartName="/ppt/media/image204.wmf" ContentType="image/x-wmf"/>
  <Override PartName="/ppt/media/image48.wmf" ContentType="image/x-wmf"/>
  <Override PartName="/ppt/media/image203.wmf" ContentType="image/x-wmf"/>
  <Override PartName="/ppt/media/image147.wmf" ContentType="image/x-wmf"/>
  <Override PartName="/ppt/media/image50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43.wmf" ContentType="image/x-wmf"/>
  <Override PartName="/ppt/media/image142.wmf" ContentType="image/x-wmf"/>
  <Override PartName="/ppt/media/image141.wmf" ContentType="image/x-wmf"/>
  <Override PartName="/ppt/media/image139.wmf" ContentType="image/x-wmf"/>
  <Override PartName="/ppt/media/image42.wmf" ContentType="image/x-wmf"/>
  <Override PartName="/ppt/media/image138.wmf" ContentType="image/x-wmf"/>
  <Override PartName="/ppt/media/image41.wmf" ContentType="image/x-wmf"/>
  <Override PartName="/ppt/media/image137.wmf" ContentType="image/x-wmf"/>
  <Override PartName="/ppt/media/image40.wmf" ContentType="image/x-wmf"/>
  <Override PartName="/ppt/media/image136.wmf" ContentType="image/x-wmf"/>
  <Override PartName="/ppt/media/image135.wmf" ContentType="image/x-wmf"/>
  <Override PartName="/ppt/media/image134.wmf" ContentType="image/x-wmf"/>
  <Override PartName="/ppt/media/image133.wmf" ContentType="image/x-wmf"/>
  <Override PartName="/ppt/media/image35.wmf" ContentType="image/x-wmf"/>
  <Override PartName="/ppt/media/image197.wmf" ContentType="image/x-wmf"/>
  <Override PartName="/ppt/media/image129.wmf" ContentType="image/x-wmf"/>
  <Override PartName="/ppt/media/image32.wmf" ContentType="image/x-wmf"/>
  <Override PartName="/ppt/media/image128.wmf" ContentType="image/x-wmf"/>
  <Override PartName="/ppt/media/image196.wmf" ContentType="image/x-wmf"/>
  <Override PartName="/ppt/media/image53.wmf" ContentType="image/x-wmf"/>
  <Override PartName="/ppt/media/image43.wmf" ContentType="image/x-wmf"/>
  <Override PartName="/ppt/media/image6.png" ContentType="image/png"/>
  <Override PartName="/ppt/media/image218.wmf" ContentType="image/x-wmf"/>
  <Override PartName="/ppt/media/image33.wmf" ContentType="image/x-wmf"/>
  <Override PartName="/ppt/media/image140.wmf" ContentType="image/x-wmf"/>
  <Override PartName="/ppt/media/image73.png" ContentType="image/png"/>
  <Override PartName="/ppt/media/image195.wmf" ContentType="image/x-wmf"/>
  <Override PartName="/ppt/media/image127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3.png" ContentType="image/png"/>
  <Override PartName="/ppt/media/image215.wmf" ContentType="image/x-wmf"/>
  <Override PartName="/ppt/media/image15.png" ContentType="image/png"/>
  <Override PartName="/ppt/media/image150.wmf" ContentType="image/x-wmf"/>
  <Override PartName="/ppt/media/image26.png" ContentType="image/png"/>
  <Override PartName="/ppt/media/image161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5.png" ContentType="image/png"/>
  <Override PartName="/ppt/media/image217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14.png" ContentType="image/png"/>
  <Override PartName="/ppt/media/image177.wmf" ContentType="image/x-wmf"/>
  <Override PartName="/ppt/media/image109.wmf" ContentType="image/x-wmf"/>
  <Override PartName="/ppt/media/image4.png" ContentType="image/png"/>
  <Override PartName="/ppt/media/image216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5BA-9890-4A41-A949-29EAFE92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75C-43BE-458A-92BA-A5166D65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0498-B8A5-499C-B556-5A8D5DCA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991-2BCF-4F61-A4E7-8A04EC98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FFE-F31B-4F34-B000-C9C58D23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1B5B-9A6C-4275-B8E9-9E57CDC6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B43-793D-446D-9EAF-40CBD410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C2DF-5769-445C-BF19-13C834D8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71F-A572-4886-8409-547A5DBB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705-DC83-4795-B758-2482CE1F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7AB-E445-4E3D-9F3A-579E7A69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794-AF6F-4442-8FD5-421ACA6A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BEA7-EE26-4D09-A107-D905C7CC5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slide" Target="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62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63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64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65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66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67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68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69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70.wmf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2.wmf"/><Relationship Id="rId11" Type="http://schemas.openxmlformats.org/officeDocument/2006/relationships/slide" Target=""/><Relationship Id="rId12" Type="http://schemas.openxmlformats.org/officeDocument/2006/relationships/image" Target="../media/image57.png"/><Relationship Id="rId13" Type="http://schemas.openxmlformats.org/officeDocument/2006/relationships/image" Target="../media/image73.png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74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75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76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77.wmf"/><Relationship Id="rId22" Type="http://schemas.openxmlformats.org/officeDocument/2006/relationships/oleObject" Target="../embeddings/oleObject7.bin"/><Relationship Id="rId23" Type="http://schemas.openxmlformats.org/officeDocument/2006/relationships/image" Target="../media/image78.wmf"/><Relationship Id="rId2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image" Target="../media/image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8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8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82.wmf"/><Relationship Id="rId14" Type="http://schemas.openxmlformats.org/officeDocument/2006/relationships/slide" Target="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83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84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85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86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87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88.wmf"/><Relationship Id="rId2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image" Target="../media/image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1.wmf"/><Relationship Id="rId12" Type="http://schemas.openxmlformats.org/officeDocument/2006/relationships/slide" Target="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2.wmf"/><Relationship Id="rId15" Type="http://schemas.openxmlformats.org/officeDocument/2006/relationships/slide" Target=""/><Relationship Id="rId16" Type="http://schemas.openxmlformats.org/officeDocument/2006/relationships/image" Target="../media/image57.png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93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94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95.wmf"/><Relationship Id="rId2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image" Target="../media/image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7.wmf"/><Relationship Id="rId10" Type="http://schemas.openxmlformats.org/officeDocument/2006/relationships/slide" Target="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00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01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02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03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104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105.wmf"/><Relationship Id="rId27" Type="http://schemas.openxmlformats.org/officeDocument/2006/relationships/oleObject" Target="../embeddings/oleObject11.bin"/><Relationship Id="rId28" Type="http://schemas.openxmlformats.org/officeDocument/2006/relationships/image" Target="../media/image106.wmf"/><Relationship Id="rId2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0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8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09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10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11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12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13.wmf"/><Relationship Id="rId2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ep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agicStars.wav" TargetMode="Externa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image" Target="../media/image114.png"/><Relationship Id="rId6" Type="http://schemas.openxmlformats.org/officeDocument/2006/relationships/image" Target="../media/image114.png"/><Relationship Id="rId7" Type="http://schemas.openxmlformats.org/officeDocument/2006/relationships/slide" Target=""/><Relationship Id="rId8" Type="http://schemas.openxmlformats.org/officeDocument/2006/relationships/oleObject" Target="../embeddings/oleObject1.bin"/><Relationship Id="rId9" Type="http://schemas.openxmlformats.org/officeDocument/2006/relationships/image" Target="../media/image11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16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17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18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19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20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21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122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123.wmf"/><Relationship Id="rId26" Type="http://schemas.openxmlformats.org/officeDocument/2006/relationships/oleObject" Target="../embeddings/oleObject10.bin"/><Relationship Id="rId27" Type="http://schemas.openxmlformats.org/officeDocument/2006/relationships/image" Target="../media/image124.wmf"/><Relationship Id="rId2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image" Target="../media/image114.png"/><Relationship Id="rId7" Type="http://schemas.openxmlformats.org/officeDocument/2006/relationships/image" Target="../media/image114.png"/><Relationship Id="rId8" Type="http://schemas.openxmlformats.org/officeDocument/2006/relationships/image" Target="../media/image2.png"/><Relationship Id="rId9" Type="http://schemas.openxmlformats.org/officeDocument/2006/relationships/slide" Target=""/><Relationship Id="rId10" Type="http://schemas.openxmlformats.org/officeDocument/2006/relationships/image" Target="../media/image57.png"/><Relationship Id="rId11" Type="http://schemas.openxmlformats.org/officeDocument/2006/relationships/slide" Target="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26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127.wmf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128.wmf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129.wmf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130.wmf"/><Relationship Id="rId22" Type="http://schemas.openxmlformats.org/officeDocument/2006/relationships/oleObject" Target="../embeddings/oleObject6.bin"/><Relationship Id="rId23" Type="http://schemas.openxmlformats.org/officeDocument/2006/relationships/image" Target="../media/image131.wmf"/><Relationship Id="rId24" Type="http://schemas.openxmlformats.org/officeDocument/2006/relationships/oleObject" Target="../embeddings/oleObject7.bin"/><Relationship Id="rId25" Type="http://schemas.openxmlformats.org/officeDocument/2006/relationships/image" Target="../media/image132.wmf"/><Relationship Id="rId26" Type="http://schemas.openxmlformats.org/officeDocument/2006/relationships/oleObject" Target="../embeddings/oleObject8.bin"/><Relationship Id="rId27" Type="http://schemas.openxmlformats.org/officeDocument/2006/relationships/image" Target="../media/image133.wmf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image" Target="../media/image114.png"/><Relationship Id="rId6" Type="http://schemas.openxmlformats.org/officeDocument/2006/relationships/image" Target="../media/image114.png"/><Relationship Id="rId7" Type="http://schemas.openxmlformats.org/officeDocument/2006/relationships/image" Target="../media/image2.png"/><Relationship Id="rId8" Type="http://schemas.openxmlformats.org/officeDocument/2006/relationships/slide" Target=""/><Relationship Id="rId9" Type="http://schemas.openxmlformats.org/officeDocument/2006/relationships/image" Target="../media/image57.png"/><Relationship Id="rId10" Type="http://schemas.openxmlformats.org/officeDocument/2006/relationships/slide" Target="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34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135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136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137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138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139.wmf"/><Relationship Id="rId23" Type="http://schemas.openxmlformats.org/officeDocument/2006/relationships/oleObject" Target="../embeddings/oleObject7.bin"/><Relationship Id="rId24" Type="http://schemas.openxmlformats.org/officeDocument/2006/relationships/image" Target="../media/image140.wmf"/><Relationship Id="rId25" Type="http://schemas.openxmlformats.org/officeDocument/2006/relationships/oleObject" Target="../embeddings/oleObject8.bin"/><Relationship Id="rId26" Type="http://schemas.openxmlformats.org/officeDocument/2006/relationships/image" Target="../media/image141.wmf"/><Relationship Id="rId27" Type="http://schemas.openxmlformats.org/officeDocument/2006/relationships/oleObject" Target="../embeddings/oleObject9.bin"/><Relationship Id="rId28" Type="http://schemas.openxmlformats.org/officeDocument/2006/relationships/image" Target="../media/image142.wmf"/><Relationship Id="rId29" Type="http://schemas.openxmlformats.org/officeDocument/2006/relationships/oleObject" Target="../embeddings/oleObject10.bin"/><Relationship Id="rId30" Type="http://schemas.openxmlformats.org/officeDocument/2006/relationships/image" Target="../media/image143.wmf"/><Relationship Id="rId31" Type="http://schemas.openxmlformats.org/officeDocument/2006/relationships/oleObject" Target="../embeddings/oleObject11.bin"/><Relationship Id="rId32" Type="http://schemas.openxmlformats.org/officeDocument/2006/relationships/image" Target="../media/image144.wmf"/><Relationship Id="rId33" Type="http://schemas.openxmlformats.org/officeDocument/2006/relationships/oleObject" Target="../embeddings/oleObject12.bin"/><Relationship Id="rId34" Type="http://schemas.openxmlformats.org/officeDocument/2006/relationships/image" Target="../media/image145.wmf"/><Relationship Id="rId3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image" Target="../media/image114.png"/><Relationship Id="rId6" Type="http://schemas.openxmlformats.org/officeDocument/2006/relationships/image" Target="../media/image114.png"/><Relationship Id="rId7" Type="http://schemas.openxmlformats.org/officeDocument/2006/relationships/image" Target="../media/image2.png"/><Relationship Id="rId8" Type="http://schemas.openxmlformats.org/officeDocument/2006/relationships/slide" Target=""/><Relationship Id="rId9" Type="http://schemas.openxmlformats.org/officeDocument/2006/relationships/image" Target="../media/image57.png"/><Relationship Id="rId10" Type="http://schemas.openxmlformats.org/officeDocument/2006/relationships/slide" Target="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46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147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148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149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150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151.wmf"/><Relationship Id="rId23" Type="http://schemas.openxmlformats.org/officeDocument/2006/relationships/oleObject" Target="../embeddings/oleObject7.bin"/><Relationship Id="rId24" Type="http://schemas.openxmlformats.org/officeDocument/2006/relationships/image" Target="../media/image152.wmf"/><Relationship Id="rId25" Type="http://schemas.openxmlformats.org/officeDocument/2006/relationships/oleObject" Target="../embeddings/oleObject8.bin"/><Relationship Id="rId26" Type="http://schemas.openxmlformats.org/officeDocument/2006/relationships/image" Target="../media/image153.wmf"/><Relationship Id="rId27" Type="http://schemas.openxmlformats.org/officeDocument/2006/relationships/oleObject" Target="../embeddings/oleObject9.bin"/><Relationship Id="rId28" Type="http://schemas.openxmlformats.org/officeDocument/2006/relationships/image" Target="../media/image154.wmf"/><Relationship Id="rId29" Type="http://schemas.openxmlformats.org/officeDocument/2006/relationships/oleObject" Target="../embeddings/oleObject10.bin"/><Relationship Id="rId30" Type="http://schemas.openxmlformats.org/officeDocument/2006/relationships/image" Target="../media/image155.wmf"/><Relationship Id="rId31" Type="http://schemas.openxmlformats.org/officeDocument/2006/relationships/oleObject" Target="../embeddings/oleObject11.bin"/><Relationship Id="rId32" Type="http://schemas.openxmlformats.org/officeDocument/2006/relationships/image" Target="../media/image156.wmf"/><Relationship Id="rId33" Type="http://schemas.openxmlformats.org/officeDocument/2006/relationships/oleObject" Target="../embeddings/oleObject12.bin"/><Relationship Id="rId34" Type="http://schemas.openxmlformats.org/officeDocument/2006/relationships/image" Target="../media/image157.wmf"/><Relationship Id="rId35" Type="http://schemas.openxmlformats.org/officeDocument/2006/relationships/oleObject" Target="../embeddings/oleObject13.bin"/><Relationship Id="rId36" Type="http://schemas.openxmlformats.org/officeDocument/2006/relationships/image" Target="../media/image158.wmf"/><Relationship Id="rId37" Type="http://schemas.openxmlformats.org/officeDocument/2006/relationships/oleObject" Target="../embeddings/oleObject14.bin"/><Relationship Id="rId38" Type="http://schemas.openxmlformats.org/officeDocument/2006/relationships/image" Target="../media/image159.wmf"/><Relationship Id="rId3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image" Target="../media/image2.png"/><Relationship Id="rId7" Type="http://schemas.openxmlformats.org/officeDocument/2006/relationships/slide" Target=""/><Relationship Id="rId8" Type="http://schemas.openxmlformats.org/officeDocument/2006/relationships/image" Target="../media/image57.png"/><Relationship Id="rId9" Type="http://schemas.openxmlformats.org/officeDocument/2006/relationships/slide" Target="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61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62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163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164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165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166.wmf"/><Relationship Id="rId22" Type="http://schemas.openxmlformats.org/officeDocument/2006/relationships/oleObject" Target="../embeddings/oleObject7.bin"/><Relationship Id="rId23" Type="http://schemas.openxmlformats.org/officeDocument/2006/relationships/image" Target="../media/image167.wmf"/><Relationship Id="rId24" Type="http://schemas.openxmlformats.org/officeDocument/2006/relationships/image" Target="../media/image114.png"/><Relationship Id="rId25" Type="http://schemas.openxmlformats.org/officeDocument/2006/relationships/image" Target="../media/image114.png"/><Relationship Id="rId26" Type="http://schemas.openxmlformats.org/officeDocument/2006/relationships/oleObject" Target="../embeddings/oleObject8.bin"/><Relationship Id="rId27" Type="http://schemas.openxmlformats.org/officeDocument/2006/relationships/image" Target="../media/image168.wmf"/><Relationship Id="rId28" Type="http://schemas.openxmlformats.org/officeDocument/2006/relationships/oleObject" Target="../embeddings/oleObject9.bin"/><Relationship Id="rId29" Type="http://schemas.openxmlformats.org/officeDocument/2006/relationships/image" Target="../media/image169.wmf"/><Relationship Id="rId30" Type="http://schemas.openxmlformats.org/officeDocument/2006/relationships/oleObject" Target="../embeddings/oleObject10.bin"/><Relationship Id="rId31" Type="http://schemas.openxmlformats.org/officeDocument/2006/relationships/image" Target="../media/image170.wmf"/><Relationship Id="rId32" Type="http://schemas.openxmlformats.org/officeDocument/2006/relationships/oleObject" Target="../embeddings/oleObject11.bin"/><Relationship Id="rId33" Type="http://schemas.openxmlformats.org/officeDocument/2006/relationships/image" Target="../media/image171.wmf"/><Relationship Id="rId3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image" Target="../media/image114.png"/><Relationship Id="rId6" Type="http://schemas.openxmlformats.org/officeDocument/2006/relationships/image" Target="../media/image114.png"/><Relationship Id="rId7" Type="http://schemas.openxmlformats.org/officeDocument/2006/relationships/slide" Target=""/><Relationship Id="rId8" Type="http://schemas.openxmlformats.org/officeDocument/2006/relationships/oleObject" Target="../embeddings/oleObject1.bin"/><Relationship Id="rId9" Type="http://schemas.openxmlformats.org/officeDocument/2006/relationships/image" Target="../media/image172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16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73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74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75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76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77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178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179.wmf"/><Relationship Id="rId26" Type="http://schemas.openxmlformats.org/officeDocument/2006/relationships/slide" Target=""/><Relationship Id="rId27" Type="http://schemas.openxmlformats.org/officeDocument/2006/relationships/image" Target="../media/image57.png"/><Relationship Id="rId28" Type="http://schemas.openxmlformats.org/officeDocument/2006/relationships/oleObject" Target="../embeddings/oleObject10.bin"/><Relationship Id="rId29" Type="http://schemas.openxmlformats.org/officeDocument/2006/relationships/image" Target="../media/image176.wmf"/><Relationship Id="rId30" Type="http://schemas.openxmlformats.org/officeDocument/2006/relationships/oleObject" Target="../embeddings/oleObject11.bin"/><Relationship Id="rId31" Type="http://schemas.openxmlformats.org/officeDocument/2006/relationships/image" Target="../media/image178.wmf"/><Relationship Id="rId32" Type="http://schemas.openxmlformats.org/officeDocument/2006/relationships/image" Target="../media/image114.png"/><Relationship Id="rId33" Type="http://schemas.openxmlformats.org/officeDocument/2006/relationships/image" Target="../media/image114.png"/><Relationship Id="rId34" Type="http://schemas.openxmlformats.org/officeDocument/2006/relationships/oleObject" Target="../embeddings/oleObject12.bin"/><Relationship Id="rId35" Type="http://schemas.openxmlformats.org/officeDocument/2006/relationships/image" Target="../media/image180.wmf"/><Relationship Id="rId36" Type="http://schemas.openxmlformats.org/officeDocument/2006/relationships/oleObject" Target="../embeddings/oleObject13.bin"/><Relationship Id="rId37" Type="http://schemas.openxmlformats.org/officeDocument/2006/relationships/image" Target="../media/image181.wmf"/><Relationship Id="rId38" Type="http://schemas.openxmlformats.org/officeDocument/2006/relationships/oleObject" Target="../embeddings/oleObject14.bin"/><Relationship Id="rId39" Type="http://schemas.openxmlformats.org/officeDocument/2006/relationships/image" Target="../media/image177.wmf"/><Relationship Id="rId40" Type="http://schemas.openxmlformats.org/officeDocument/2006/relationships/oleObject" Target="../embeddings/oleObject15.bin"/><Relationship Id="rId41" Type="http://schemas.openxmlformats.org/officeDocument/2006/relationships/image" Target="../media/image179.wmf"/><Relationship Id="rId4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image" Target="../media/image114.png"/><Relationship Id="rId6" Type="http://schemas.openxmlformats.org/officeDocument/2006/relationships/image" Target="../media/image114.png"/><Relationship Id="rId7" Type="http://schemas.openxmlformats.org/officeDocument/2006/relationships/slide" Target=""/><Relationship Id="rId8" Type="http://schemas.openxmlformats.org/officeDocument/2006/relationships/oleObject" Target="../embeddings/oleObject1.bin"/><Relationship Id="rId9" Type="http://schemas.openxmlformats.org/officeDocument/2006/relationships/image" Target="../media/image182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83.wmf"/><Relationship Id="rId12" Type="http://schemas.openxmlformats.org/officeDocument/2006/relationships/slide" Target=""/><Relationship Id="rId13" Type="http://schemas.openxmlformats.org/officeDocument/2006/relationships/image" Target="../media/image57.png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184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185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186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187.wmf"/><Relationship Id="rId22" Type="http://schemas.openxmlformats.org/officeDocument/2006/relationships/oleObject" Target="../embeddings/oleObject7.bin"/><Relationship Id="rId23" Type="http://schemas.openxmlformats.org/officeDocument/2006/relationships/image" Target="../media/image188.wmf"/><Relationship Id="rId24" Type="http://schemas.openxmlformats.org/officeDocument/2006/relationships/oleObject" Target="../embeddings/oleObject8.bin"/><Relationship Id="rId25" Type="http://schemas.openxmlformats.org/officeDocument/2006/relationships/image" Target="../media/image189.wmf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190.wmf"/><Relationship Id="rId28" Type="http://schemas.openxmlformats.org/officeDocument/2006/relationships/oleObject" Target="../embeddings/oleObject10.bin"/><Relationship Id="rId29" Type="http://schemas.openxmlformats.org/officeDocument/2006/relationships/image" Target="../media/image191.wmf"/><Relationship Id="rId30" Type="http://schemas.openxmlformats.org/officeDocument/2006/relationships/oleObject" Target="../embeddings/oleObject11.bin"/><Relationship Id="rId31" Type="http://schemas.openxmlformats.org/officeDocument/2006/relationships/image" Target="../media/image192.wmf"/><Relationship Id="rId32" Type="http://schemas.openxmlformats.org/officeDocument/2006/relationships/image" Target="../media/image2.png"/><Relationship Id="rId3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slide" Target=""/><Relationship Id="rId6" Type="http://schemas.openxmlformats.org/officeDocument/2006/relationships/oleObject" Target="../embeddings/oleObject1.bin"/><Relationship Id="rId7" Type="http://schemas.openxmlformats.org/officeDocument/2006/relationships/image" Target="../media/image19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9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9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9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97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98.wmf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image" Target="../media/image2.png"/><Relationship Id="rId6" Type="http://schemas.openxmlformats.org/officeDocument/2006/relationships/slide" Target=""/><Relationship Id="rId7" Type="http://schemas.openxmlformats.org/officeDocument/2006/relationships/image" Target="../media/image57.png"/><Relationship Id="rId8" Type="http://schemas.openxmlformats.org/officeDocument/2006/relationships/slide" Target="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99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200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201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202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203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204.wmf"/><Relationship Id="rId21" Type="http://schemas.openxmlformats.org/officeDocument/2006/relationships/image" Target="../media/image114.png"/><Relationship Id="rId22" Type="http://schemas.openxmlformats.org/officeDocument/2006/relationships/image" Target="../media/image114.png"/><Relationship Id="rId2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image" Target="../media/image57.png"/><Relationship Id="rId8" Type="http://schemas.openxmlformats.org/officeDocument/2006/relationships/hyperlink" Target="file:///tmp/home/.config/libreoffice/4/user/gallery/MagicStars.wav" TargetMode="External"/><Relationship Id="rId9" Type="http://schemas.openxmlformats.org/officeDocument/2006/relationships/oleObject" Target="../embeddings/oleObject1.bin"/><Relationship Id="rId10" Type="http://schemas.openxmlformats.org/officeDocument/2006/relationships/image" Target="../media/image205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206.wmf"/><Relationship Id="rId13" Type="http://schemas.openxmlformats.org/officeDocument/2006/relationships/image" Target="../media/image114.png"/><Relationship Id="rId14" Type="http://schemas.openxmlformats.org/officeDocument/2006/relationships/image" Target="../media/image114.png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207.wmf"/><Relationship Id="rId17" Type="http://schemas.openxmlformats.org/officeDocument/2006/relationships/image" Target="../media/image114.png"/><Relationship Id="rId18" Type="http://schemas.openxmlformats.org/officeDocument/2006/relationships/image" Target="../media/image114.png"/><Relationship Id="rId19" Type="http://schemas.openxmlformats.org/officeDocument/2006/relationships/oleObject" Target="../embeddings/oleObject4.bin"/><Relationship Id="rId20" Type="http://schemas.openxmlformats.org/officeDocument/2006/relationships/image" Target="../media/image208.wmf"/><Relationship Id="rId2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image" Target="../media/image114.png"/><Relationship Id="rId6" Type="http://schemas.openxmlformats.org/officeDocument/2006/relationships/image" Target="../media/image114.png"/><Relationship Id="rId7" Type="http://schemas.openxmlformats.org/officeDocument/2006/relationships/hyperlink" Target="file:///tmp/home/.config/libreoffice/4/user/gallery/MagicStars.wav" TargetMode="External"/><Relationship Id="rId8" Type="http://schemas.openxmlformats.org/officeDocument/2006/relationships/oleObject" Target="../embeddings/oleObject1.bin"/><Relationship Id="rId9" Type="http://schemas.openxmlformats.org/officeDocument/2006/relationships/image" Target="../media/image209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16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10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11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212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213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214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215.wmf"/><Relationship Id="rId24" Type="http://schemas.openxmlformats.org/officeDocument/2006/relationships/hyperlink" Target="file:///tmp/home/.config/libreoffice/4/user/gallery/beep.wav" TargetMode="External"/><Relationship Id="rId25" Type="http://schemas.openxmlformats.org/officeDocument/2006/relationships/image" Target="../media/image57.png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216.wmf"/><Relationship Id="rId28" Type="http://schemas.openxmlformats.org/officeDocument/2006/relationships/oleObject" Target="../embeddings/oleObject10.bin"/><Relationship Id="rId29" Type="http://schemas.openxmlformats.org/officeDocument/2006/relationships/image" Target="../media/image217.wmf"/><Relationship Id="rId30" Type="http://schemas.openxmlformats.org/officeDocument/2006/relationships/oleObject" Target="../embeddings/oleObject11.bin"/><Relationship Id="rId31" Type="http://schemas.openxmlformats.org/officeDocument/2006/relationships/image" Target="../media/image218.wmf"/><Relationship Id="rId32" Type="http://schemas.openxmlformats.org/officeDocument/2006/relationships/oleObject" Target="../embeddings/oleObject12.bin"/><Relationship Id="rId33" Type="http://schemas.openxmlformats.org/officeDocument/2006/relationships/image" Target="../media/image219.wmf"/><Relationship Id="rId34" Type="http://schemas.openxmlformats.org/officeDocument/2006/relationships/image" Target="../media/image2.png"/><Relationship Id="rId3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hyperlink" Target="file:///tmp/home/.config/libreoffice/4/user/gallery/MagicStars.wav" TargetMode="External"/><Relationship Id="rId6" Type="http://schemas.openxmlformats.org/officeDocument/2006/relationships/oleObject" Target="../embeddings/oleObject1.bin"/><Relationship Id="rId7" Type="http://schemas.openxmlformats.org/officeDocument/2006/relationships/image" Target="../media/image22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2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2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2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24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25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26.wmf"/><Relationship Id="rId22" Type="http://schemas.openxmlformats.org/officeDocument/2006/relationships/hyperlink" Target="file:///tmp/home/.config/libreoffice/4/user/gallery/beep.wav" TargetMode="External"/><Relationship Id="rId23" Type="http://schemas.openxmlformats.org/officeDocument/2006/relationships/image" Target="../media/image57.png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178.wmf"/><Relationship Id="rId26" Type="http://schemas.openxmlformats.org/officeDocument/2006/relationships/image" Target="../media/image114.png"/><Relationship Id="rId27" Type="http://schemas.openxmlformats.org/officeDocument/2006/relationships/image" Target="../media/image114.png"/><Relationship Id="rId28" Type="http://schemas.openxmlformats.org/officeDocument/2006/relationships/oleObject" Target="../embeddings/oleObject10.bin"/><Relationship Id="rId29" Type="http://schemas.openxmlformats.org/officeDocument/2006/relationships/image" Target="../media/image181.wmf"/><Relationship Id="rId30" Type="http://schemas.openxmlformats.org/officeDocument/2006/relationships/oleObject" Target="../embeddings/oleObject11.bin"/><Relationship Id="rId31" Type="http://schemas.openxmlformats.org/officeDocument/2006/relationships/image" Target="../media/image179.wmf"/><Relationship Id="rId3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agicStars.wav" TargetMode="Externa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ep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3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3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35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36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37.wmf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13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4.wm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23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24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25.wmf"/><Relationship Id="rId27" Type="http://schemas.openxmlformats.org/officeDocument/2006/relationships/slide" Target="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33.wmf"/><Relationship Id="rId21" Type="http://schemas.openxmlformats.org/officeDocument/2006/relationships/slide" Target="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40.wmf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46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47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48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49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50.wmf"/><Relationship Id="rId27" Type="http://schemas.openxmlformats.org/officeDocument/2006/relationships/oleObject" Target="../embeddings/oleObject11.bin"/><Relationship Id="rId28" Type="http://schemas.openxmlformats.org/officeDocument/2006/relationships/image" Target="../media/image51.wmf"/><Relationship Id="rId29" Type="http://schemas.openxmlformats.org/officeDocument/2006/relationships/oleObject" Target="../embeddings/oleObject12.bin"/><Relationship Id="rId30" Type="http://schemas.openxmlformats.org/officeDocument/2006/relationships/image" Target="../media/image52.wmf"/><Relationship Id="rId3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56.wmf"/><Relationship Id="rId15" Type="http://schemas.openxmlformats.org/officeDocument/2006/relationships/slide" Target=""/><Relationship Id="rId16" Type="http://schemas.openxmlformats.org/officeDocument/2006/relationships/image" Target="../media/image57.png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58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59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60.wmf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209680"/>
            <a:ext cx="7772400" cy="10112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gher Ma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81280"/>
            <a:ext cx="9144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www.maths4scotland.co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267080" y="5407200"/>
            <a:ext cx="549360" cy="53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06120" y="60199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20516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und An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953400" y="635040"/>
            <a:ext cx="2108160" cy="24033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36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7472520" y="4324320"/>
            <a:ext cx="618840" cy="619200"/>
          </a:xfrm>
          <a:prstGeom prst="rect">
            <a:avLst/>
          </a:prstGeom>
          <a:ln w="0">
            <a:noFill/>
          </a:ln>
        </p:spPr>
      </p:pic>
      <p:sp>
        <p:nvSpPr>
          <p:cNvPr id="339" name="">
            <a:hlinkClick r:id="" action="ppaction://hlinkshowjump?jump=nextslide"/>
            <a:hlinkClick r:id="rId4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previousslide"/>
            <a:hlinkClick r:id="rId5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6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7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23800" y="2168640"/>
            <a:ext cx="1665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ythag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4560" y="3751200"/>
            <a:ext cx="1814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xpand  cos (x +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790720" y="3746520"/>
          <a:ext cx="3691080" cy="330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90720" y="3746520"/>
                    <a:ext cx="36910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90680" y="2843280"/>
            <a:ext cx="22096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ite 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in x, cos x, sin y, cos 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809800" y="2916360"/>
          <a:ext cx="4267440" cy="556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09800" y="2916360"/>
                    <a:ext cx="426744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603360" y="4429080"/>
            <a:ext cx="1214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1560" y="5197320"/>
            <a:ext cx="1268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573440" y="4986360"/>
          <a:ext cx="1855800" cy="701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3440" y="4986360"/>
                    <a:ext cx="18558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8" name=""/>
          <p:cNvGrpSpPr/>
          <p:nvPr/>
        </p:nvGrpSpPr>
        <p:grpSpPr>
          <a:xfrm>
            <a:off x="439560" y="700200"/>
            <a:ext cx="5513400" cy="1417680"/>
            <a:chOff x="439560" y="700200"/>
            <a:chExt cx="5513400" cy="1417680"/>
          </a:xfrm>
        </p:grpSpPr>
        <p:sp>
          <p:nvSpPr>
            <p:cNvPr id="359" name=""/>
            <p:cNvSpPr/>
            <p:nvPr/>
          </p:nvSpPr>
          <p:spPr>
            <a:xfrm>
              <a:off x="439560" y="700200"/>
              <a:ext cx="551340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The diagram shows two right angled triang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BD and BCD with AB = 7 cm, BC = 4 cm and CD = 3 cm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ngle DBC =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°  and angle ABD is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°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Show that the exact value of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0" name=""/>
            <p:cNvGraphicFramePr/>
            <p:nvPr/>
          </p:nvGraphicFramePr>
          <p:xfrm>
            <a:off x="3076560" y="1471680"/>
            <a:ext cx="2370240" cy="6462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076560" y="1471680"/>
                      <a:ext cx="2370240" cy="64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62" name=""/>
          <p:cNvGraphicFramePr/>
          <p:nvPr/>
        </p:nvGraphicFramePr>
        <p:xfrm>
          <a:off x="2459160" y="2147760"/>
          <a:ext cx="1958760" cy="376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59160" y="2147760"/>
                    <a:ext cx="195876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4" name=""/>
          <p:cNvGrpSpPr/>
          <p:nvPr/>
        </p:nvGrpSpPr>
        <p:grpSpPr>
          <a:xfrm>
            <a:off x="7895520" y="1022400"/>
            <a:ext cx="608760" cy="1266120"/>
            <a:chOff x="7895520" y="1022400"/>
            <a:chExt cx="608760" cy="1266120"/>
          </a:xfrm>
        </p:grpSpPr>
        <p:graphicFrame>
          <p:nvGraphicFramePr>
            <p:cNvPr id="365" name=""/>
            <p:cNvGraphicFramePr/>
            <p:nvPr/>
          </p:nvGraphicFramePr>
          <p:xfrm>
            <a:off x="8088480" y="1022400"/>
            <a:ext cx="415800" cy="2779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66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088480" y="1022400"/>
                      <a:ext cx="415800" cy="27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"/>
            <p:cNvSpPr/>
            <p:nvPr/>
          </p:nvSpPr>
          <p:spPr>
            <a:xfrm>
              <a:off x="7895520" y="204480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8" name=""/>
          <p:cNvGraphicFramePr/>
          <p:nvPr/>
        </p:nvGraphicFramePr>
        <p:xfrm>
          <a:off x="2011320" y="4235400"/>
          <a:ext cx="3183120" cy="6904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011320" y="4235400"/>
                    <a:ext cx="31831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984320" y="5000760"/>
          <a:ext cx="2635200" cy="6904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984320" y="5000760"/>
                    <a:ext cx="263520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321600" y="4986360"/>
          <a:ext cx="1566720" cy="7016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321600" y="4986360"/>
                    <a:ext cx="15667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3613320" y="5224320"/>
            <a:ext cx="618840" cy="619200"/>
          </a:xfrm>
          <a:prstGeom prst="rect">
            <a:avLst/>
          </a:prstGeom>
          <a:ln w="0">
            <a:noFill/>
          </a:ln>
        </p:spPr>
      </p:pic>
      <p:sp>
        <p:nvSpPr>
          <p:cNvPr id="379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rId5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6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93560" y="2125800"/>
            <a:ext cx="1570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aw tri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05480" y="2128680"/>
            <a:ext cx="1665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ythag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675240" y="3263760"/>
          <a:ext cx="2576160" cy="57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75240" y="3263760"/>
                    <a:ext cx="2576160" cy="5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452520" y="973080"/>
            <a:ext cx="4914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framework of a child’s swing has 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s shown in the diagram. Find the exact value of  sin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°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3560" y="3387600"/>
            <a:ext cx="3071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ite down sin ½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 and  cos ½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6435720" y="2112840"/>
          <a:ext cx="741240" cy="37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35720" y="2112840"/>
                    <a:ext cx="7412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506520" y="4676760"/>
            <a:ext cx="1214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5378400"/>
            <a:ext cx="1268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3"/>
          <a:stretch/>
        </p:blipFill>
        <p:spPr>
          <a:xfrm>
            <a:off x="5199120" y="816120"/>
            <a:ext cx="3645000" cy="1244520"/>
          </a:xfrm>
          <a:prstGeom prst="rect">
            <a:avLst/>
          </a:prstGeom>
          <a:ln w="0">
            <a:noFill/>
          </a:ln>
        </p:spPr>
      </p:pic>
      <p:grpSp>
        <p:nvGrpSpPr>
          <p:cNvPr id="400" name=""/>
          <p:cNvGrpSpPr/>
          <p:nvPr/>
        </p:nvGrpSpPr>
        <p:grpSpPr>
          <a:xfrm>
            <a:off x="6648480" y="2335320"/>
            <a:ext cx="2184480" cy="1561320"/>
            <a:chOff x="6648480" y="2335320"/>
            <a:chExt cx="2184480" cy="1561320"/>
          </a:xfrm>
        </p:grpSpPr>
        <p:sp>
          <p:nvSpPr>
            <p:cNvPr id="401" name=""/>
            <p:cNvSpPr/>
            <p:nvPr/>
          </p:nvSpPr>
          <p:spPr>
            <a:xfrm>
              <a:off x="6648480" y="2335320"/>
              <a:ext cx="2184480" cy="12430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89120" y="266688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35080" y="268128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51080" y="365292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0240" y="24494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2246400" y="2130480"/>
            <a:ext cx="2128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aw in perpendi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7195320" y="2333520"/>
            <a:ext cx="692280" cy="1243080"/>
            <a:chOff x="7195320" y="2333520"/>
            <a:chExt cx="692280" cy="1243080"/>
          </a:xfrm>
        </p:grpSpPr>
        <p:sp>
          <p:nvSpPr>
            <p:cNvPr id="408" name=""/>
            <p:cNvSpPr/>
            <p:nvPr/>
          </p:nvSpPr>
          <p:spPr>
            <a:xfrm>
              <a:off x="7604280" y="3452760"/>
              <a:ext cx="123840" cy="123840"/>
            </a:xfrm>
            <a:prstGeom prst="rect">
              <a:avLst/>
            </a:prstGeom>
            <a:noFill/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195320" y="331956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Arial Narrow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24880" y="2333520"/>
              <a:ext cx="0" cy="1241640"/>
            </a:xfrm>
            <a:prstGeom prst="line">
              <a:avLst/>
            </a:prstGeom>
            <a:ln w="9360">
              <a:solidFill>
                <a:srgbClr val="00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1" name=""/>
            <p:cNvGraphicFramePr/>
            <p:nvPr/>
          </p:nvGraphicFramePr>
          <p:xfrm>
            <a:off x="7423200" y="2577960"/>
            <a:ext cx="258840" cy="5256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7423200" y="2577960"/>
                      <a:ext cx="25884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3" name=""/>
            <p:cNvSpPr/>
            <p:nvPr/>
          </p:nvSpPr>
          <p:spPr>
            <a:xfrm>
              <a:off x="7794000" y="290844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Arial Narrow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14" name=""/>
          <p:cNvGraphicFramePr/>
          <p:nvPr/>
        </p:nvGraphicFramePr>
        <p:xfrm>
          <a:off x="7764480" y="2890800"/>
          <a:ext cx="263520" cy="2635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764480" y="2890800"/>
                    <a:ext cx="26352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506520" y="2746440"/>
            <a:ext cx="3316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fact that  sin x = sin ( ½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+ ½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560" y="4030560"/>
            <a:ext cx="2414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 sin ( ½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+ ½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3094200" y="3924360"/>
          <a:ext cx="5072040" cy="5364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094200" y="3924360"/>
                    <a:ext cx="50720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1979640" y="4548240"/>
          <a:ext cx="2392200" cy="5778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979640" y="4548240"/>
                    <a:ext cx="239220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2052720" y="5154480"/>
          <a:ext cx="1319040" cy="7016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052720" y="5154480"/>
                    <a:ext cx="13190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2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7035840" y="5014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29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5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438120" y="925560"/>
            <a:ext cx="512604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iven that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ind the exact valu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3120" y="2681280"/>
            <a:ext cx="262260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ite down value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384720" y="2616120"/>
          <a:ext cx="3408120" cy="79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84720" y="2616120"/>
                    <a:ext cx="34081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601560" y="3632040"/>
            <a:ext cx="1895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 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2795760" y="3638520"/>
          <a:ext cx="2587320" cy="401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95760" y="3638520"/>
                    <a:ext cx="25873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7415280" y="1136520"/>
          <a:ext cx="439560" cy="317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415280" y="1136520"/>
                    <a:ext cx="4395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601560" y="4410000"/>
            <a:ext cx="1895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2797200" y="4203720"/>
          <a:ext cx="2386080" cy="747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97200" y="4203720"/>
                    <a:ext cx="23860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601560" y="5276880"/>
            <a:ext cx="981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rId14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643040" y="727200"/>
          <a:ext cx="2390760" cy="662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43040" y="727200"/>
                    <a:ext cx="239076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2" name=""/>
          <p:cNvGrpSpPr/>
          <p:nvPr/>
        </p:nvGrpSpPr>
        <p:grpSpPr>
          <a:xfrm>
            <a:off x="7381440" y="942840"/>
            <a:ext cx="1232280" cy="1212120"/>
            <a:chOff x="7381440" y="942840"/>
            <a:chExt cx="1232280" cy="1212120"/>
          </a:xfrm>
        </p:grpSpPr>
        <p:sp>
          <p:nvSpPr>
            <p:cNvPr id="453" name=""/>
            <p:cNvSpPr/>
            <p:nvPr/>
          </p:nvSpPr>
          <p:spPr>
            <a:xfrm flipH="1">
              <a:off x="7381080" y="942840"/>
              <a:ext cx="868680" cy="9511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790040" y="1911240"/>
              <a:ext cx="18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32000" y="1627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6" name=""/>
            <p:cNvGraphicFramePr/>
            <p:nvPr/>
          </p:nvGraphicFramePr>
          <p:xfrm>
            <a:off x="8247240" y="1295280"/>
            <a:ext cx="366480" cy="271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5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247240" y="1295280"/>
                      <a:ext cx="366480" cy="27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58" name=""/>
          <p:cNvGraphicFramePr/>
          <p:nvPr/>
        </p:nvGraphicFramePr>
        <p:xfrm>
          <a:off x="2489040" y="1417680"/>
          <a:ext cx="797040" cy="330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489040" y="1417680"/>
                    <a:ext cx="7970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493560" y="2025720"/>
            <a:ext cx="1570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aw tri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48000" y="2028960"/>
            <a:ext cx="1665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ythag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4305240" y="1965240"/>
          <a:ext cx="1951200" cy="417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05240" y="1965240"/>
                    <a:ext cx="19512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2832120" y="5099040"/>
          <a:ext cx="1582560" cy="700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832120" y="5099040"/>
                    <a:ext cx="158256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5335560" y="5067360"/>
          <a:ext cx="1111320" cy="700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335560" y="5067360"/>
                    <a:ext cx="11113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7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6230880" y="52833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473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5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438120" y="853920"/>
            <a:ext cx="34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ind algebraically the exact valu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3252960" y="2814480"/>
          <a:ext cx="4356000" cy="1003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52960" y="2814480"/>
                    <a:ext cx="43560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"/>
          <p:cNvSpPr/>
          <p:nvPr/>
        </p:nvSpPr>
        <p:spPr>
          <a:xfrm>
            <a:off x="531720" y="1542960"/>
            <a:ext cx="22320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2927520" y="1500120"/>
          <a:ext cx="4960800" cy="480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27520" y="1500120"/>
                    <a:ext cx="49608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531720" y="3083040"/>
            <a:ext cx="2443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table of exact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157560" y="3968640"/>
          <a:ext cx="5459400" cy="631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57560" y="3968640"/>
                    <a:ext cx="54594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587520" y="4079880"/>
            <a:ext cx="2331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bine and sub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12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3724200" y="822240"/>
          <a:ext cx="4200480" cy="47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24200" y="822240"/>
                    <a:ext cx="42004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3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1720" y="2238480"/>
            <a:ext cx="22320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xpand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s 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1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2903400" y="2195640"/>
          <a:ext cx="5008680" cy="480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03400" y="2195640"/>
                    <a:ext cx="50086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587520" y="4745160"/>
            <a:ext cx="938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924200" y="4645080"/>
          <a:ext cx="4343400" cy="569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924200" y="4645080"/>
                    <a:ext cx="43434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5030640" y="5343480"/>
          <a:ext cx="646200" cy="476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30640" y="5343480"/>
                    <a:ext cx="6462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505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5573880" y="5256360"/>
            <a:ext cx="618840" cy="618840"/>
          </a:xfrm>
          <a:prstGeom prst="rect">
            <a:avLst/>
          </a:prstGeom>
          <a:ln w="0">
            <a:noFill/>
          </a:ln>
        </p:spPr>
      </p:pic>
      <p:sp>
        <p:nvSpPr>
          <p:cNvPr id="508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438120" y="925560"/>
            <a:ext cx="5126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f                                                     find the exact valu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03280" y="2552760"/>
            <a:ext cx="262260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ite down value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3332160" y="2543040"/>
          <a:ext cx="2749680" cy="681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32160" y="2543040"/>
                    <a:ext cx="274968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560520" y="3419640"/>
            <a:ext cx="1895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2714760" y="3425760"/>
          <a:ext cx="2638440" cy="401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14760" y="3425760"/>
                    <a:ext cx="26384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>
            <a:hlinkClick r:id="rId10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3560" y="2025720"/>
            <a:ext cx="1570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aw tri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48000" y="2028960"/>
            <a:ext cx="1665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ythag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808200" y="785880"/>
          <a:ext cx="2352600" cy="68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08200" y="785880"/>
                    <a:ext cx="235260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7" name=""/>
          <p:cNvGrpSpPr/>
          <p:nvPr/>
        </p:nvGrpSpPr>
        <p:grpSpPr>
          <a:xfrm>
            <a:off x="7381800" y="942840"/>
            <a:ext cx="868320" cy="1279080"/>
            <a:chOff x="7381800" y="942840"/>
            <a:chExt cx="868320" cy="1279080"/>
          </a:xfrm>
        </p:grpSpPr>
        <p:sp>
          <p:nvSpPr>
            <p:cNvPr id="528" name=""/>
            <p:cNvSpPr/>
            <p:nvPr/>
          </p:nvSpPr>
          <p:spPr>
            <a:xfrm flipH="1">
              <a:off x="7381800" y="942840"/>
              <a:ext cx="868320" cy="9511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93120" y="1138320"/>
              <a:ext cx="18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32720" y="1622520"/>
              <a:ext cx="23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759800" y="1978200"/>
              <a:ext cx="18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8305920" y="1246320"/>
            <a:ext cx="24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01640" y="202392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pposite side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5594400" y="3222720"/>
          <a:ext cx="2471760" cy="736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94400" y="3222720"/>
                    <a:ext cx="24717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"/>
          <p:cNvSpPr/>
          <p:nvPr/>
        </p:nvSpPr>
        <p:spPr>
          <a:xfrm>
            <a:off x="560520" y="4081320"/>
            <a:ext cx="3090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n 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(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+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817800" y="4059360"/>
          <a:ext cx="2940120" cy="401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17800" y="4059360"/>
                    <a:ext cx="294012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/>
          <p:nvPr/>
        </p:nvSpPr>
        <p:spPr>
          <a:xfrm>
            <a:off x="600120" y="4711680"/>
            <a:ext cx="1641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xpand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s 2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2400480" y="4705200"/>
          <a:ext cx="2698560" cy="38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00480" y="4705200"/>
                    <a:ext cx="26985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5327640" y="4584600"/>
          <a:ext cx="2187720" cy="644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27640" y="4584600"/>
                    <a:ext cx="218772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614520" y="5386320"/>
            <a:ext cx="13460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 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2168640" y="5262480"/>
          <a:ext cx="2030400" cy="647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68640" y="5262480"/>
                    <a:ext cx="20304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4448160" y="5243400"/>
          <a:ext cx="1062000" cy="657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48160" y="5243400"/>
                    <a:ext cx="10620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878040" y="1496880"/>
          <a:ext cx="758520" cy="335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78040" y="1496880"/>
                    <a:ext cx="7585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2779560" y="1496880"/>
          <a:ext cx="758880" cy="335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779560" y="1496880"/>
                    <a:ext cx="75888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555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6381720" y="497988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58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rId5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493560" y="2068560"/>
            <a:ext cx="1570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aw tri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94000" y="2070000"/>
            <a:ext cx="1665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ythag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33520" y="3470400"/>
            <a:ext cx="1896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 sin (P + 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619360" y="3429000"/>
          <a:ext cx="3960720" cy="41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19360" y="3429000"/>
                    <a:ext cx="39607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"/>
          <p:cNvSpPr/>
          <p:nvPr/>
        </p:nvSpPr>
        <p:spPr>
          <a:xfrm>
            <a:off x="439560" y="768240"/>
            <a:ext cx="592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or acute angles P and Q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how that the exact valu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5987880" y="923760"/>
            <a:ext cx="2928960" cy="676080"/>
            <a:chOff x="5987880" y="923760"/>
            <a:chExt cx="2928960" cy="676080"/>
          </a:xfrm>
        </p:grpSpPr>
        <p:sp>
          <p:nvSpPr>
            <p:cNvPr id="573" name=""/>
            <p:cNvSpPr/>
            <p:nvPr/>
          </p:nvSpPr>
          <p:spPr>
            <a:xfrm flipH="1">
              <a:off x="5987880" y="925200"/>
              <a:ext cx="1131840" cy="6685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119720" y="1128600"/>
              <a:ext cx="24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373800" y="923760"/>
              <a:ext cx="24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375240" y="13381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7508880" y="931680"/>
              <a:ext cx="1131840" cy="66816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58160" y="956880"/>
              <a:ext cx="24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670960" y="1122120"/>
              <a:ext cx="24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896240" y="1344240"/>
              <a:ext cx="24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4258800" y="2089080"/>
            <a:ext cx="34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jacent sides  are 5 and 4 respect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6662160" y="1627200"/>
            <a:ext cx="1609920" cy="255960"/>
            <a:chOff x="6662160" y="1627200"/>
            <a:chExt cx="1609920" cy="255960"/>
          </a:xfrm>
        </p:grpSpPr>
        <p:sp>
          <p:nvSpPr>
            <p:cNvPr id="583" name=""/>
            <p:cNvSpPr/>
            <p:nvPr/>
          </p:nvSpPr>
          <p:spPr>
            <a:xfrm>
              <a:off x="6662160" y="162720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178480" y="163944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 Narrow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33520" y="2800440"/>
            <a:ext cx="3316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ite down sin P, cos P, sin Q, cos Q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3984480" y="2722680"/>
          <a:ext cx="4413240" cy="51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84480" y="2722680"/>
                    <a:ext cx="44132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506520" y="4253040"/>
            <a:ext cx="1119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2909880" y="708120"/>
          <a:ext cx="2392200" cy="50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09880" y="708120"/>
                    <a:ext cx="239220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3059280" y="1176480"/>
          <a:ext cx="1722240" cy="566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59280" y="1176480"/>
                    <a:ext cx="17222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2260440" y="4095720"/>
          <a:ext cx="3259440" cy="639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60440" y="4095720"/>
                    <a:ext cx="3259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506520" y="5091120"/>
            <a:ext cx="1119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2270160" y="4948200"/>
          <a:ext cx="2557440" cy="639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70160" y="4948200"/>
                    <a:ext cx="2557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5168880" y="4951440"/>
          <a:ext cx="990720" cy="639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68880" y="4951440"/>
                    <a:ext cx="9907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previousslide"/>
            <a:hlinkClick r:id="rId1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308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completed al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questions in thi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>
            <a:hlinkClick r:id="rId2" action="ppaction://hlinksldjump"/>
          </p:cNvPr>
          <p:cNvSpPr/>
          <p:nvPr/>
        </p:nvSpPr>
        <p:spPr>
          <a:xfrm>
            <a:off x="7450200" y="5770440"/>
            <a:ext cx="1160280" cy="341280"/>
          </a:xfrm>
          <a:custGeom>
            <a:avLst/>
            <a:gdLst>
              <a:gd name="textAreaLeft" fmla="*/ 203040 w 1160280"/>
              <a:gd name="textAreaRight" fmla="*/ 841320 w 11602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86480" y="624204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Back t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>
            <a:hlinkClick r:id="rId3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3357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2371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mpound angle formula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09920" y="4319640"/>
            <a:ext cx="549360" cy="53640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4032000" y="49449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>
            <a:hlinkClick r:id="rId3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619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7362720" y="48261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622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7243920" y="2825640"/>
            <a:ext cx="399960" cy="851040"/>
            <a:chOff x="7243920" y="2825640"/>
            <a:chExt cx="399960" cy="851040"/>
          </a:xfrm>
        </p:grpSpPr>
        <p:pic>
          <p:nvPicPr>
            <p:cNvPr id="629" name="" descr=""/>
            <p:cNvPicPr/>
            <p:nvPr/>
          </p:nvPicPr>
          <p:blipFill>
            <a:blip r:embed="rId5"/>
            <a:stretch/>
          </p:blipFill>
          <p:spPr>
            <a:xfrm>
              <a:off x="7243920" y="328788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" descr=""/>
            <p:cNvPicPr/>
            <p:nvPr/>
          </p:nvPicPr>
          <p:blipFill>
            <a:blip r:embed="rId6"/>
            <a:stretch/>
          </p:blipFill>
          <p:spPr>
            <a:xfrm>
              <a:off x="7255080" y="2825640"/>
              <a:ext cx="388800" cy="38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1" name="">
            <a:hlinkClick r:id="rId7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09680" y="855720"/>
            <a:ext cx="8388360" cy="399960"/>
            <a:chOff x="409680" y="855720"/>
            <a:chExt cx="8388360" cy="399960"/>
          </a:xfrm>
        </p:grpSpPr>
        <p:sp>
          <p:nvSpPr>
            <p:cNvPr id="633" name=""/>
            <p:cNvSpPr/>
            <p:nvPr/>
          </p:nvSpPr>
          <p:spPr>
            <a:xfrm>
              <a:off x="409680" y="855720"/>
              <a:ext cx="838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Solve the equation                                                         for  0 ≤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 ≤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   correct to 2 decimal plac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4" name=""/>
            <p:cNvGraphicFramePr/>
            <p:nvPr/>
          </p:nvGraphicFramePr>
          <p:xfrm>
            <a:off x="2158920" y="895320"/>
            <a:ext cx="2774880" cy="360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3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58920" y="895320"/>
                      <a:ext cx="27748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6" name=""/>
          <p:cNvSpPr/>
          <p:nvPr/>
        </p:nvSpPr>
        <p:spPr>
          <a:xfrm>
            <a:off x="479520" y="1585800"/>
            <a:ext cx="2019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place cos 2x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2655720" y="1585800"/>
          <a:ext cx="1979640" cy="330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55720" y="1585800"/>
                    <a:ext cx="19796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479520" y="216684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2292480" y="2133720"/>
          <a:ext cx="3073320" cy="453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92480" y="2133720"/>
                    <a:ext cx="307332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"/>
          <p:cNvSpPr/>
          <p:nvPr/>
        </p:nvSpPr>
        <p:spPr>
          <a:xfrm>
            <a:off x="479520" y="273384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2398680" y="2747880"/>
          <a:ext cx="2495520" cy="330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98680" y="2747880"/>
                    <a:ext cx="24955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2460600" y="3178080"/>
          <a:ext cx="2371680" cy="330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60600" y="3178080"/>
                    <a:ext cx="23716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"/>
          <p:cNvSpPr/>
          <p:nvPr/>
        </p:nvSpPr>
        <p:spPr>
          <a:xfrm>
            <a:off x="479520" y="367668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cto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2347920" y="3649680"/>
          <a:ext cx="2598840" cy="4125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347920" y="3649680"/>
                    <a:ext cx="25988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479520" y="429912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433600" y="4260960"/>
          <a:ext cx="1073160" cy="8254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433600" y="4260960"/>
                    <a:ext cx="10731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3609720" y="47480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79520" y="525780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acu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2427120" y="5308560"/>
          <a:ext cx="1671840" cy="3301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427120" y="5308560"/>
                    <a:ext cx="16718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6234120" y="1933560"/>
            <a:ext cx="2048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702400" y="2006640"/>
            <a:ext cx="0" cy="366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6840360" y="2544840"/>
            <a:ext cx="846000" cy="1338120"/>
            <a:chOff x="6840360" y="2544840"/>
            <a:chExt cx="846000" cy="1338120"/>
          </a:xfrm>
        </p:grpSpPr>
        <p:sp>
          <p:nvSpPr>
            <p:cNvPr id="660" name=""/>
            <p:cNvSpPr/>
            <p:nvPr/>
          </p:nvSpPr>
          <p:spPr>
            <a:xfrm>
              <a:off x="7208640" y="272088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840360" y="32274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76760" y="25448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60880" y="25448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85040" y="3608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67000" y="3608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66" name=""/>
          <p:cNvGraphicFramePr/>
          <p:nvPr/>
        </p:nvGraphicFramePr>
        <p:xfrm>
          <a:off x="5923080" y="4138560"/>
          <a:ext cx="2847960" cy="3301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923080" y="4138560"/>
                    <a:ext cx="2847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5889600" y="4815000"/>
          <a:ext cx="1444680" cy="7016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889600" y="4815000"/>
                    <a:ext cx="14446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5618160" y="663480"/>
            <a:ext cx="2957400" cy="172872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673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5" name="" descr=""/>
          <p:cNvPicPr/>
          <p:nvPr/>
        </p:nvPicPr>
        <p:blipFill>
          <a:blip r:embed="rId3"/>
          <a:stretch/>
        </p:blipFill>
        <p:spPr>
          <a:xfrm>
            <a:off x="7499520" y="5504040"/>
            <a:ext cx="618840" cy="618840"/>
          </a:xfrm>
          <a:prstGeom prst="rect">
            <a:avLst/>
          </a:prstGeom>
          <a:ln w="0">
            <a:noFill/>
          </a:ln>
        </p:spPr>
      </p:pic>
      <p:sp>
        <p:nvSpPr>
          <p:cNvPr id="676" name="">
            <a:hlinkClick r:id="" action="ppaction://hlinkshowjump?jump=nextslide"/>
            <a:hlinkClick r:id="rId4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>
            <a:hlinkClick r:id="" action="ppaction://hlinkshowjump?jump=previousslide"/>
            <a:hlinkClick r:id="rId5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6892920" y="3186000"/>
            <a:ext cx="399960" cy="851040"/>
            <a:chOff x="6892920" y="3186000"/>
            <a:chExt cx="399960" cy="851040"/>
          </a:xfrm>
        </p:grpSpPr>
        <p:pic>
          <p:nvPicPr>
            <p:cNvPr id="683" name="" descr=""/>
            <p:cNvPicPr/>
            <p:nvPr/>
          </p:nvPicPr>
          <p:blipFill>
            <a:blip r:embed="rId6"/>
            <a:stretch/>
          </p:blipFill>
          <p:spPr>
            <a:xfrm>
              <a:off x="6892920" y="364824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" descr=""/>
            <p:cNvPicPr/>
            <p:nvPr/>
          </p:nvPicPr>
          <p:blipFill>
            <a:blip r:embed="rId7"/>
            <a:stretch/>
          </p:blipFill>
          <p:spPr>
            <a:xfrm>
              <a:off x="6904080" y="3186000"/>
              <a:ext cx="388800" cy="38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5" name="" descr=""/>
          <p:cNvPicPr/>
          <p:nvPr/>
        </p:nvPicPr>
        <p:blipFill>
          <a:blip r:embed="rId8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>
            <a:hlinkClick r:id="rId11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38120" y="2790720"/>
            <a:ext cx="2019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lve simultaneous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2746440" y="2755800"/>
          <a:ext cx="1525680" cy="371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46440" y="2755800"/>
                    <a:ext cx="15256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>
            <a:off x="479520" y="339408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r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2629080" y="3295800"/>
          <a:ext cx="1382400" cy="556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29080" y="3295800"/>
                    <a:ext cx="138240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2359080" y="4029120"/>
          <a:ext cx="2889360" cy="330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359080" y="4029120"/>
                    <a:ext cx="28893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"/>
          <p:cNvSpPr/>
          <p:nvPr/>
        </p:nvSpPr>
        <p:spPr>
          <a:xfrm>
            <a:off x="479520" y="459252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acute 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2463840" y="4497480"/>
          <a:ext cx="1217520" cy="515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463840" y="4497480"/>
                    <a:ext cx="12175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6343560" y="2455920"/>
            <a:ext cx="2048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688000" y="2573280"/>
            <a:ext cx="0" cy="315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6923160" y="2905200"/>
            <a:ext cx="846000" cy="1338120"/>
            <a:chOff x="6923160" y="2905200"/>
            <a:chExt cx="846000" cy="1338120"/>
          </a:xfrm>
        </p:grpSpPr>
        <p:sp>
          <p:nvSpPr>
            <p:cNvPr id="703" name=""/>
            <p:cNvSpPr/>
            <p:nvPr/>
          </p:nvSpPr>
          <p:spPr>
            <a:xfrm>
              <a:off x="7291440" y="308124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23160" y="358776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9560" y="29052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43680" y="29052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67840" y="39686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49800" y="39686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09" name=""/>
          <p:cNvGraphicFramePr/>
          <p:nvPr/>
        </p:nvGraphicFramePr>
        <p:xfrm>
          <a:off x="1944720" y="5156280"/>
          <a:ext cx="2806560" cy="515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944720" y="5156280"/>
                    <a:ext cx="28065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"/>
          <p:cNvGraphicFramePr/>
          <p:nvPr/>
        </p:nvGraphicFramePr>
        <p:xfrm>
          <a:off x="5889600" y="4346640"/>
          <a:ext cx="1851120" cy="6253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889600" y="4346640"/>
                    <a:ext cx="185112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>
            <a:off x="477720" y="777960"/>
            <a:ext cx="492624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diagram shows the graph of a cosine function from 0 to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)   State the equation of the grap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)   The line with equation   y = -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3  intersects this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t points A and B.  Find the co-ordinates of B.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8120" y="2209680"/>
            <a:ext cx="1036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908000" y="2209680"/>
          <a:ext cx="1236960" cy="3304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16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908000" y="2209680"/>
                    <a:ext cx="12369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"/>
          <p:cNvSpPr/>
          <p:nvPr/>
        </p:nvSpPr>
        <p:spPr>
          <a:xfrm>
            <a:off x="479520" y="397836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heck 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5867280" y="5097600"/>
          <a:ext cx="1900440" cy="6048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867280" y="5097600"/>
                    <a:ext cx="190044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0" name=""/>
          <p:cNvSpPr/>
          <p:nvPr/>
        </p:nvSpPr>
        <p:spPr>
          <a:xfrm>
            <a:off x="479520" y="5257800"/>
            <a:ext cx="1216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duce 2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93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Ang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19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questions ar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22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alculator questions will be ind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5181480"/>
            <a:ext cx="549360" cy="536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00400" y="5867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86720" y="3244680"/>
            <a:ext cx="747720" cy="100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36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need a pencil, paper, ruler and rub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477720" y="750960"/>
            <a:ext cx="81867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unctions 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and 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are defined on suitable domains by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sin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and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ind expressions f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)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i)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lve    2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for  0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x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36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724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6626160" y="483408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727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7947000" y="3184560"/>
            <a:ext cx="399960" cy="851040"/>
            <a:chOff x="7947000" y="3184560"/>
            <a:chExt cx="399960" cy="851040"/>
          </a:xfrm>
        </p:grpSpPr>
        <p:pic>
          <p:nvPicPr>
            <p:cNvPr id="734" name="" descr=""/>
            <p:cNvPicPr/>
            <p:nvPr/>
          </p:nvPicPr>
          <p:blipFill>
            <a:blip r:embed="rId5"/>
            <a:stretch/>
          </p:blipFill>
          <p:spPr>
            <a:xfrm>
              <a:off x="7947000" y="364680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" descr=""/>
            <p:cNvPicPr/>
            <p:nvPr/>
          </p:nvPicPr>
          <p:blipFill>
            <a:blip r:embed="rId6"/>
            <a:stretch/>
          </p:blipFill>
          <p:spPr>
            <a:xfrm>
              <a:off x="7958160" y="3184560"/>
              <a:ext cx="388800" cy="38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6" name="" descr=""/>
          <p:cNvPicPr/>
          <p:nvPr/>
        </p:nvPicPr>
        <p:blipFill>
          <a:blip r:embed="rId7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>
            <a:hlinkClick r:id="rId10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38120" y="2762280"/>
            <a:ext cx="1392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50720" y="3265560"/>
            <a:ext cx="1474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rm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2060640" y="3298680"/>
          <a:ext cx="1671480" cy="289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60640" y="3298680"/>
                    <a:ext cx="167148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"/>
          <p:cNvSpPr/>
          <p:nvPr/>
        </p:nvSpPr>
        <p:spPr>
          <a:xfrm>
            <a:off x="450720" y="4305240"/>
            <a:ext cx="1365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r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991120" y="3268800"/>
            <a:ext cx="1106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688000" y="1617840"/>
            <a:ext cx="0" cy="411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7540560" y="2975040"/>
            <a:ext cx="846000" cy="1338120"/>
            <a:chOff x="7540560" y="2975040"/>
            <a:chExt cx="846000" cy="1338120"/>
          </a:xfrm>
        </p:grpSpPr>
        <p:sp>
          <p:nvSpPr>
            <p:cNvPr id="748" name=""/>
            <p:cNvSpPr/>
            <p:nvPr/>
          </p:nvSpPr>
          <p:spPr>
            <a:xfrm>
              <a:off x="7908840" y="315108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540560" y="36576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076960" y="29750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61080" y="29750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85240" y="40384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567200" y="40384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54" name=""/>
          <p:cNvGraphicFramePr/>
          <p:nvPr/>
        </p:nvGraphicFramePr>
        <p:xfrm>
          <a:off x="5927760" y="3971880"/>
          <a:ext cx="1338120" cy="297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27760" y="3971880"/>
                    <a:ext cx="133812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438120" y="2266920"/>
            <a:ext cx="1365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2232000" y="2266920"/>
          <a:ext cx="2556000" cy="33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32000" y="2266920"/>
                    <a:ext cx="25560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9" name=""/>
          <p:cNvSpPr/>
          <p:nvPr/>
        </p:nvSpPr>
        <p:spPr>
          <a:xfrm>
            <a:off x="449280" y="4848120"/>
            <a:ext cx="158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on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2128680" y="2714760"/>
          <a:ext cx="2762280" cy="33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28680" y="2714760"/>
                    <a:ext cx="27622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"/>
          <p:cNvSpPr/>
          <p:nvPr/>
        </p:nvSpPr>
        <p:spPr>
          <a:xfrm>
            <a:off x="450720" y="3786120"/>
            <a:ext cx="1446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place sin 2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2303640" y="3790800"/>
          <a:ext cx="1898640" cy="289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03640" y="3790800"/>
                    <a:ext cx="189864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"/>
          <p:cNvGraphicFramePr/>
          <p:nvPr/>
        </p:nvGraphicFramePr>
        <p:xfrm>
          <a:off x="3803760" y="3298680"/>
          <a:ext cx="1774800" cy="330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03760" y="3298680"/>
                    <a:ext cx="17748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"/>
          <p:cNvGraphicFramePr/>
          <p:nvPr/>
        </p:nvGraphicFramePr>
        <p:xfrm>
          <a:off x="2128680" y="4305240"/>
          <a:ext cx="2249640" cy="289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6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128680" y="4305240"/>
                    <a:ext cx="224964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9" name=""/>
          <p:cNvGraphicFramePr/>
          <p:nvPr/>
        </p:nvGraphicFramePr>
        <p:xfrm>
          <a:off x="2276640" y="4795920"/>
          <a:ext cx="2063520" cy="412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7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276640" y="4795920"/>
                    <a:ext cx="20635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1" name=""/>
          <p:cNvSpPr/>
          <p:nvPr/>
        </p:nvSpPr>
        <p:spPr>
          <a:xfrm>
            <a:off x="449280" y="5386320"/>
            <a:ext cx="861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547640" y="5297400"/>
          <a:ext cx="3838680" cy="515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547640" y="5297400"/>
                    <a:ext cx="38386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"/>
          <p:cNvSpPr/>
          <p:nvPr/>
        </p:nvSpPr>
        <p:spPr>
          <a:xfrm>
            <a:off x="5910120" y="1574640"/>
            <a:ext cx="1339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6018120" y="2082960"/>
          <a:ext cx="2517840" cy="3301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018120" y="2082960"/>
                    <a:ext cx="25178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7" name=""/>
          <p:cNvGraphicFramePr/>
          <p:nvPr/>
        </p:nvGraphicFramePr>
        <p:xfrm>
          <a:off x="6006960" y="2523960"/>
          <a:ext cx="2517840" cy="5162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006960" y="2523960"/>
                    <a:ext cx="2517840" cy="5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5986440" y="4457880"/>
          <a:ext cx="2482920" cy="350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986440" y="4457880"/>
                    <a:ext cx="24829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500"/>
                            </p:stCondLst>
                            <p:childTnLst>
                              <p:par>
                                <p:cTn id="1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368280" y="636480"/>
            <a:ext cx="843300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unctions                                                                      are defined on a suitable set of real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ind expressions for        i)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i)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5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)     Show that                                                       ii)   Find a similar expression f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ii)    Hence solve the equ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784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6554880" y="545148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787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7088040" y="4255920"/>
            <a:ext cx="892080" cy="400320"/>
            <a:chOff x="7088040" y="4255920"/>
            <a:chExt cx="892080" cy="400320"/>
          </a:xfrm>
        </p:grpSpPr>
        <p:pic>
          <p:nvPicPr>
            <p:cNvPr id="794" name="" descr=""/>
            <p:cNvPicPr/>
            <p:nvPr/>
          </p:nvPicPr>
          <p:blipFill>
            <a:blip r:embed="rId5"/>
            <a:stretch/>
          </p:blipFill>
          <p:spPr>
            <a:xfrm>
              <a:off x="7088040" y="4267080"/>
              <a:ext cx="388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" descr=""/>
            <p:cNvPicPr/>
            <p:nvPr/>
          </p:nvPicPr>
          <p:blipFill>
            <a:blip r:embed="rId6"/>
            <a:stretch/>
          </p:blipFill>
          <p:spPr>
            <a:xfrm>
              <a:off x="7591320" y="4255920"/>
              <a:ext cx="388800" cy="38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6" name="" descr=""/>
          <p:cNvPicPr/>
          <p:nvPr/>
        </p:nvPicPr>
        <p:blipFill>
          <a:blip r:embed="rId7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>
            <a:hlinkClick r:id="rId10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38040" y="3032280"/>
            <a:ext cx="1392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2200" y="3579840"/>
            <a:ext cx="1643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implify 1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 exp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1000" y="4718160"/>
            <a:ext cx="1954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imilarly for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exp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638680" y="4157640"/>
            <a:ext cx="1106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442120" y="2370240"/>
            <a:ext cx="3168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174080" y="4019400"/>
            <a:ext cx="846000" cy="1338120"/>
            <a:chOff x="7174080" y="4019400"/>
            <a:chExt cx="846000" cy="1338120"/>
          </a:xfrm>
        </p:grpSpPr>
        <p:sp>
          <p:nvSpPr>
            <p:cNvPr id="806" name=""/>
            <p:cNvSpPr/>
            <p:nvPr/>
          </p:nvSpPr>
          <p:spPr>
            <a:xfrm>
              <a:off x="7542360" y="419544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74080" y="470196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710480" y="40194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194600" y="40194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718760" y="50828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200720" y="5082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12" name=""/>
          <p:cNvGraphicFramePr/>
          <p:nvPr/>
        </p:nvGraphicFramePr>
        <p:xfrm>
          <a:off x="5727600" y="5016600"/>
          <a:ext cx="1003320" cy="57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27600" y="5016600"/>
                    <a:ext cx="10033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4" name=""/>
          <p:cNvSpPr/>
          <p:nvPr/>
        </p:nvSpPr>
        <p:spPr>
          <a:xfrm>
            <a:off x="338040" y="2508120"/>
            <a:ext cx="1365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5" name=""/>
          <p:cNvGraphicFramePr/>
          <p:nvPr/>
        </p:nvGraphicFramePr>
        <p:xfrm>
          <a:off x="1998720" y="2417760"/>
          <a:ext cx="2941560" cy="517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98720" y="2417760"/>
                    <a:ext cx="29415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"/>
          <p:cNvSpPr/>
          <p:nvPr/>
        </p:nvSpPr>
        <p:spPr>
          <a:xfrm>
            <a:off x="351000" y="4141800"/>
            <a:ext cx="1755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exact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1357200" y="612720"/>
          <a:ext cx="3411720" cy="484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57200" y="612720"/>
                    <a:ext cx="34117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0" name=""/>
          <p:cNvGraphicFramePr/>
          <p:nvPr/>
        </p:nvGraphicFramePr>
        <p:xfrm>
          <a:off x="2340000" y="1355760"/>
          <a:ext cx="2522520" cy="56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2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40000" y="1355760"/>
                    <a:ext cx="25225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2" name=""/>
          <p:cNvGraphicFramePr/>
          <p:nvPr/>
        </p:nvGraphicFramePr>
        <p:xfrm>
          <a:off x="3676680" y="1946160"/>
          <a:ext cx="3622680" cy="316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76680" y="1946160"/>
                    <a:ext cx="36226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4" name=""/>
          <p:cNvGraphicFramePr/>
          <p:nvPr/>
        </p:nvGraphicFramePr>
        <p:xfrm>
          <a:off x="2019240" y="2948040"/>
          <a:ext cx="2906640" cy="515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2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19240" y="2948040"/>
                    <a:ext cx="29066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6" name=""/>
          <p:cNvGraphicFramePr/>
          <p:nvPr/>
        </p:nvGraphicFramePr>
        <p:xfrm>
          <a:off x="2201760" y="3525840"/>
          <a:ext cx="2949840" cy="457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201760" y="3525840"/>
                    <a:ext cx="29498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8" name=""/>
          <p:cNvGraphicFramePr/>
          <p:nvPr/>
        </p:nvGraphicFramePr>
        <p:xfrm>
          <a:off x="2338560" y="4049640"/>
          <a:ext cx="2552400" cy="478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2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338560" y="4049640"/>
                    <a:ext cx="255240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2405160" y="4660920"/>
          <a:ext cx="2946240" cy="460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405160" y="4660920"/>
                    <a:ext cx="29462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2" name=""/>
          <p:cNvGraphicFramePr/>
          <p:nvPr/>
        </p:nvGraphicFramePr>
        <p:xfrm>
          <a:off x="2644920" y="5057640"/>
          <a:ext cx="2560320" cy="4827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44920" y="5057640"/>
                    <a:ext cx="2560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"/>
          <p:cNvSpPr/>
          <p:nvPr/>
        </p:nvSpPr>
        <p:spPr>
          <a:xfrm>
            <a:off x="343080" y="5554800"/>
            <a:ext cx="1064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Form Eq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1984320" y="5605560"/>
          <a:ext cx="1857600" cy="2808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3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4320" y="5605560"/>
                    <a:ext cx="1857600" cy="2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"/>
          <p:cNvGraphicFramePr/>
          <p:nvPr/>
        </p:nvGraphicFramePr>
        <p:xfrm>
          <a:off x="7591320" y="2390760"/>
          <a:ext cx="1025640" cy="474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3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591320" y="2390760"/>
                    <a:ext cx="10256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9" name=""/>
          <p:cNvSpPr/>
          <p:nvPr/>
        </p:nvSpPr>
        <p:spPr>
          <a:xfrm>
            <a:off x="5583240" y="2463840"/>
            <a:ext cx="1485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ie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6838920" y="2928960"/>
          <a:ext cx="2106720" cy="528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4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838920" y="2928960"/>
                    <a:ext cx="210672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"/>
          <p:cNvSpPr/>
          <p:nvPr/>
        </p:nvSpPr>
        <p:spPr>
          <a:xfrm>
            <a:off x="5607000" y="3019320"/>
            <a:ext cx="1190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rran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607000" y="3505320"/>
            <a:ext cx="1190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cu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7018200" y="3454560"/>
          <a:ext cx="1003320" cy="4633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018200" y="3454560"/>
                    <a:ext cx="100332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6621480" y="681120"/>
            <a:ext cx="2276280" cy="170820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398520" y="665280"/>
            <a:ext cx="818676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)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lve the equation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2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co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in the interval  0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18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)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diagram shows parts of two trigonometric graph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in 2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n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Use your solutions in (a)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rite down the co-ordinates of the point P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850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2" name="" descr=""/>
          <p:cNvPicPr/>
          <p:nvPr/>
        </p:nvPicPr>
        <p:blipFill>
          <a:blip r:embed="rId3"/>
          <a:stretch/>
        </p:blipFill>
        <p:spPr>
          <a:xfrm>
            <a:off x="7375680" y="5105520"/>
            <a:ext cx="618840" cy="618840"/>
          </a:xfrm>
          <a:prstGeom prst="rect">
            <a:avLst/>
          </a:prstGeom>
          <a:ln w="0">
            <a:noFill/>
          </a:ln>
        </p:spPr>
      </p:pic>
      <p:sp>
        <p:nvSpPr>
          <p:cNvPr id="853" name="">
            <a:hlinkClick r:id="" action="ppaction://hlinkshowjump?jump=nextslide"/>
            <a:hlinkClick r:id="rId4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>
            <a:hlinkClick r:id="" action="ppaction://hlinkshowjump?jump=previousslide"/>
            <a:hlinkClick r:id="rId5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6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>
            <a:hlinkClick r:id="rId9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47840" y="4889520"/>
            <a:ext cx="196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r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837400" y="1604880"/>
            <a:ext cx="0" cy="411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146400" y="4621320"/>
            <a:ext cx="846000" cy="1338120"/>
            <a:chOff x="3146400" y="4621320"/>
            <a:chExt cx="846000" cy="1338120"/>
          </a:xfrm>
        </p:grpSpPr>
        <p:sp>
          <p:nvSpPr>
            <p:cNvPr id="866" name=""/>
            <p:cNvSpPr/>
            <p:nvPr/>
          </p:nvSpPr>
          <p:spPr>
            <a:xfrm>
              <a:off x="3514680" y="479736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146400" y="530388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682800" y="46213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166920" y="46213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691080" y="5684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173040" y="56847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2" name=""/>
          <p:cNvGraphicFramePr/>
          <p:nvPr/>
        </p:nvGraphicFramePr>
        <p:xfrm>
          <a:off x="4260960" y="5114880"/>
          <a:ext cx="1319040" cy="297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60960" y="5114880"/>
                    <a:ext cx="131904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4" name=""/>
          <p:cNvSpPr/>
          <p:nvPr/>
        </p:nvSpPr>
        <p:spPr>
          <a:xfrm>
            <a:off x="463680" y="2724120"/>
            <a:ext cx="158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on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50720" y="2182680"/>
            <a:ext cx="1582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plac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 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6" name=""/>
          <p:cNvGraphicFramePr/>
          <p:nvPr/>
        </p:nvGraphicFramePr>
        <p:xfrm>
          <a:off x="2214720" y="2214720"/>
          <a:ext cx="2269800" cy="288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4720" y="2214720"/>
                    <a:ext cx="226980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8" name=""/>
          <p:cNvGraphicFramePr/>
          <p:nvPr/>
        </p:nvGraphicFramePr>
        <p:xfrm>
          <a:off x="2290680" y="2671920"/>
          <a:ext cx="2063880" cy="412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7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90680" y="2671920"/>
                    <a:ext cx="20638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"/>
          <p:cNvSpPr/>
          <p:nvPr/>
        </p:nvSpPr>
        <p:spPr>
          <a:xfrm>
            <a:off x="460440" y="3271680"/>
            <a:ext cx="861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1636560" y="3182760"/>
          <a:ext cx="3797280" cy="516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8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636560" y="3182760"/>
                    <a:ext cx="3797280" cy="5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3" name=""/>
          <p:cNvSpPr/>
          <p:nvPr/>
        </p:nvSpPr>
        <p:spPr>
          <a:xfrm>
            <a:off x="447840" y="3767040"/>
            <a:ext cx="12855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1890720" y="3797280"/>
          <a:ext cx="3817800" cy="330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890720" y="3797280"/>
                    <a:ext cx="3817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"/>
          <p:cNvGraphicFramePr/>
          <p:nvPr/>
        </p:nvGraphicFramePr>
        <p:xfrm>
          <a:off x="1903320" y="4127400"/>
          <a:ext cx="2476440" cy="515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8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903320" y="4127400"/>
                    <a:ext cx="24764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"/>
          <p:cNvGraphicFramePr/>
          <p:nvPr/>
        </p:nvGraphicFramePr>
        <p:xfrm>
          <a:off x="6508800" y="2913120"/>
          <a:ext cx="1955880" cy="3506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08800" y="2913120"/>
                    <a:ext cx="19558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0" name=""/>
          <p:cNvGrpSpPr/>
          <p:nvPr/>
        </p:nvGrpSpPr>
        <p:grpSpPr>
          <a:xfrm>
            <a:off x="3103560" y="4869000"/>
            <a:ext cx="892080" cy="399600"/>
            <a:chOff x="3103560" y="4869000"/>
            <a:chExt cx="892080" cy="399600"/>
          </a:xfrm>
        </p:grpSpPr>
        <p:pic>
          <p:nvPicPr>
            <p:cNvPr id="891" name="" descr=""/>
            <p:cNvPicPr/>
            <p:nvPr/>
          </p:nvPicPr>
          <p:blipFill>
            <a:blip r:embed="rId24"/>
            <a:stretch/>
          </p:blipFill>
          <p:spPr>
            <a:xfrm>
              <a:off x="3103560" y="487980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" descr=""/>
            <p:cNvPicPr/>
            <p:nvPr/>
          </p:nvPicPr>
          <p:blipFill>
            <a:blip r:embed="rId25"/>
            <a:stretch/>
          </p:blipFill>
          <p:spPr>
            <a:xfrm>
              <a:off x="3606840" y="4869000"/>
              <a:ext cx="388800" cy="3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3" name=""/>
          <p:cNvSpPr/>
          <p:nvPr/>
        </p:nvSpPr>
        <p:spPr>
          <a:xfrm>
            <a:off x="6004080" y="2430360"/>
            <a:ext cx="2950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lutions for where graphs cr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7886880" y="3398760"/>
          <a:ext cx="922320" cy="3510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895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886880" y="3398760"/>
                    <a:ext cx="92232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6" name=""/>
          <p:cNvSpPr/>
          <p:nvPr/>
        </p:nvSpPr>
        <p:spPr>
          <a:xfrm>
            <a:off x="6004080" y="3394080"/>
            <a:ext cx="1695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y inspection 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7" name=""/>
          <p:cNvGraphicFramePr/>
          <p:nvPr/>
        </p:nvGraphicFramePr>
        <p:xfrm>
          <a:off x="7497720" y="4005360"/>
          <a:ext cx="1339920" cy="3506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898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7497720" y="4005360"/>
                    <a:ext cx="13399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9" name=""/>
          <p:cNvSpPr/>
          <p:nvPr/>
        </p:nvSpPr>
        <p:spPr>
          <a:xfrm>
            <a:off x="6004080" y="3986280"/>
            <a:ext cx="1395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y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0" name=""/>
          <p:cNvGraphicFramePr/>
          <p:nvPr/>
        </p:nvGraphicFramePr>
        <p:xfrm>
          <a:off x="7645320" y="4295880"/>
          <a:ext cx="966960" cy="59220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901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7645320" y="4295880"/>
                    <a:ext cx="9669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2" name=""/>
          <p:cNvSpPr/>
          <p:nvPr/>
        </p:nvSpPr>
        <p:spPr>
          <a:xfrm>
            <a:off x="6019920" y="4714920"/>
            <a:ext cx="1122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ords,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3" name=""/>
          <p:cNvGraphicFramePr/>
          <p:nvPr/>
        </p:nvGraphicFramePr>
        <p:xfrm>
          <a:off x="6019920" y="5165640"/>
          <a:ext cx="1336680" cy="5558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904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6019920" y="5165640"/>
                    <a:ext cx="133668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907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6818400" y="50864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10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6041880" y="3073320"/>
            <a:ext cx="399960" cy="851040"/>
            <a:chOff x="6041880" y="3073320"/>
            <a:chExt cx="399960" cy="851040"/>
          </a:xfrm>
        </p:grpSpPr>
        <p:pic>
          <p:nvPicPr>
            <p:cNvPr id="917" name="" descr=""/>
            <p:cNvPicPr/>
            <p:nvPr/>
          </p:nvPicPr>
          <p:blipFill>
            <a:blip r:embed="rId5"/>
            <a:stretch/>
          </p:blipFill>
          <p:spPr>
            <a:xfrm>
              <a:off x="6041880" y="353556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" descr=""/>
            <p:cNvPicPr/>
            <p:nvPr/>
          </p:nvPicPr>
          <p:blipFill>
            <a:blip r:embed="rId6"/>
            <a:stretch/>
          </p:blipFill>
          <p:spPr>
            <a:xfrm>
              <a:off x="6053040" y="3073320"/>
              <a:ext cx="388800" cy="38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9" name="">
            <a:hlinkClick r:id="rId7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22280" y="85572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lve the equation                                                           for  0 ≤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≤ 36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2409840" y="866880"/>
          <a:ext cx="2354400" cy="36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09840" y="866880"/>
                    <a:ext cx="23544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3" name=""/>
          <p:cNvSpPr/>
          <p:nvPr/>
        </p:nvSpPr>
        <p:spPr>
          <a:xfrm>
            <a:off x="479520" y="1585800"/>
            <a:ext cx="2019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place cos 2x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2655720" y="1585800"/>
          <a:ext cx="1979640" cy="330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55720" y="1585800"/>
                    <a:ext cx="19796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"/>
          <p:cNvSpPr/>
          <p:nvPr/>
        </p:nvSpPr>
        <p:spPr>
          <a:xfrm>
            <a:off x="479520" y="216684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2508120" y="2133720"/>
          <a:ext cx="2641680" cy="453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08120" y="2133720"/>
                    <a:ext cx="264168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9" name=""/>
          <p:cNvSpPr/>
          <p:nvPr/>
        </p:nvSpPr>
        <p:spPr>
          <a:xfrm>
            <a:off x="479520" y="273384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0" name=""/>
          <p:cNvGraphicFramePr/>
          <p:nvPr/>
        </p:nvGraphicFramePr>
        <p:xfrm>
          <a:off x="2532240" y="2747880"/>
          <a:ext cx="2226960" cy="330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3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32240" y="2747880"/>
                    <a:ext cx="2226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2" name=""/>
          <p:cNvSpPr/>
          <p:nvPr/>
        </p:nvSpPr>
        <p:spPr>
          <a:xfrm>
            <a:off x="479520" y="336240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cto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3" name=""/>
          <p:cNvGraphicFramePr/>
          <p:nvPr/>
        </p:nvGraphicFramePr>
        <p:xfrm>
          <a:off x="2265480" y="3335400"/>
          <a:ext cx="2763720" cy="412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3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65480" y="3335400"/>
                    <a:ext cx="27637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5" name=""/>
          <p:cNvSpPr/>
          <p:nvPr/>
        </p:nvSpPr>
        <p:spPr>
          <a:xfrm>
            <a:off x="479520" y="392760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6" name=""/>
          <p:cNvGraphicFramePr/>
          <p:nvPr/>
        </p:nvGraphicFramePr>
        <p:xfrm>
          <a:off x="2354400" y="3851280"/>
          <a:ext cx="1093680" cy="515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354400" y="3851280"/>
                    <a:ext cx="10936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"/>
          <p:cNvSpPr/>
          <p:nvPr/>
        </p:nvSpPr>
        <p:spPr>
          <a:xfrm>
            <a:off x="479520" y="452124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acu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9" name=""/>
          <p:cNvGraphicFramePr/>
          <p:nvPr/>
        </p:nvGraphicFramePr>
        <p:xfrm>
          <a:off x="2236680" y="4545000"/>
          <a:ext cx="1258920" cy="330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94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236680" y="4545000"/>
                    <a:ext cx="1258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1" name=""/>
          <p:cNvSpPr/>
          <p:nvPr/>
        </p:nvSpPr>
        <p:spPr>
          <a:xfrm>
            <a:off x="5907240" y="1620720"/>
            <a:ext cx="2047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5689440" y="2006640"/>
            <a:ext cx="12960" cy="28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6130800" y="2833560"/>
            <a:ext cx="846000" cy="1338120"/>
            <a:chOff x="6130800" y="2833560"/>
            <a:chExt cx="846000" cy="1338120"/>
          </a:xfrm>
        </p:grpSpPr>
        <p:sp>
          <p:nvSpPr>
            <p:cNvPr id="944" name=""/>
            <p:cNvSpPr/>
            <p:nvPr/>
          </p:nvSpPr>
          <p:spPr>
            <a:xfrm>
              <a:off x="6499080" y="300960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130800" y="35161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667200" y="28335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151320" y="28335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675480" y="38970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157440" y="38970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50" name=""/>
          <p:cNvGraphicFramePr/>
          <p:nvPr/>
        </p:nvGraphicFramePr>
        <p:xfrm>
          <a:off x="3954600" y="3840120"/>
          <a:ext cx="949320" cy="5158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95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954600" y="3840120"/>
                    <a:ext cx="9493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2" name=""/>
          <p:cNvGraphicFramePr/>
          <p:nvPr/>
        </p:nvGraphicFramePr>
        <p:xfrm>
          <a:off x="3835440" y="4519440"/>
          <a:ext cx="1258920" cy="3304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835440" y="4519440"/>
                    <a:ext cx="125892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4" name="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6000840" y="2009880"/>
          <a:ext cx="847800" cy="399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957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6000840" y="2009880"/>
                    <a:ext cx="8478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8" name=""/>
          <p:cNvGrpSpPr/>
          <p:nvPr/>
        </p:nvGrpSpPr>
        <p:grpSpPr>
          <a:xfrm>
            <a:off x="7696080" y="2833560"/>
            <a:ext cx="846000" cy="1338120"/>
            <a:chOff x="7696080" y="2833560"/>
            <a:chExt cx="846000" cy="1338120"/>
          </a:xfrm>
        </p:grpSpPr>
        <p:sp>
          <p:nvSpPr>
            <p:cNvPr id="959" name=""/>
            <p:cNvSpPr/>
            <p:nvPr/>
          </p:nvSpPr>
          <p:spPr>
            <a:xfrm>
              <a:off x="8064360" y="300960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696080" y="35161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232480" y="28335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716600" y="28335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240760" y="38970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722720" y="38970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65" name=""/>
          <p:cNvGraphicFramePr/>
          <p:nvPr/>
        </p:nvGraphicFramePr>
        <p:xfrm>
          <a:off x="7613640" y="1996920"/>
          <a:ext cx="798480" cy="4334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7613640" y="1996920"/>
                    <a:ext cx="7984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7" name=""/>
          <p:cNvGrpSpPr/>
          <p:nvPr/>
        </p:nvGrpSpPr>
        <p:grpSpPr>
          <a:xfrm>
            <a:off x="8110440" y="3073320"/>
            <a:ext cx="399960" cy="851040"/>
            <a:chOff x="8110440" y="3073320"/>
            <a:chExt cx="399960" cy="851040"/>
          </a:xfrm>
        </p:grpSpPr>
        <p:pic>
          <p:nvPicPr>
            <p:cNvPr id="968" name="" descr=""/>
            <p:cNvPicPr/>
            <p:nvPr/>
          </p:nvPicPr>
          <p:blipFill>
            <a:blip r:embed="rId32"/>
            <a:stretch/>
          </p:blipFill>
          <p:spPr>
            <a:xfrm>
              <a:off x="8110440" y="353556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" descr=""/>
            <p:cNvPicPr/>
            <p:nvPr/>
          </p:nvPicPr>
          <p:blipFill>
            <a:blip r:embed="rId33"/>
            <a:stretch/>
          </p:blipFill>
          <p:spPr>
            <a:xfrm>
              <a:off x="8121600" y="3073320"/>
              <a:ext cx="388800" cy="3891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70" name=""/>
          <p:cNvGraphicFramePr/>
          <p:nvPr/>
        </p:nvGraphicFramePr>
        <p:xfrm>
          <a:off x="6068880" y="4214880"/>
          <a:ext cx="806760" cy="63828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068880" y="4214880"/>
                    <a:ext cx="806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2" name=""/>
          <p:cNvGraphicFramePr/>
          <p:nvPr/>
        </p:nvGraphicFramePr>
        <p:xfrm>
          <a:off x="7696080" y="4214880"/>
          <a:ext cx="806400" cy="63828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7696080" y="4214880"/>
                    <a:ext cx="806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4" name=""/>
          <p:cNvSpPr/>
          <p:nvPr/>
        </p:nvSpPr>
        <p:spPr>
          <a:xfrm>
            <a:off x="1661760" y="5289480"/>
            <a:ext cx="503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 are:  x= 60°, 132°, 228° and 30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5" name=""/>
          <p:cNvGraphicFramePr/>
          <p:nvPr/>
        </p:nvGraphicFramePr>
        <p:xfrm>
          <a:off x="6033960" y="2432160"/>
          <a:ext cx="1052640" cy="27612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976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6033960" y="2432160"/>
                    <a:ext cx="105264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7" name=""/>
          <p:cNvGraphicFramePr/>
          <p:nvPr/>
        </p:nvGraphicFramePr>
        <p:xfrm>
          <a:off x="7551720" y="2435400"/>
          <a:ext cx="1054080" cy="27612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978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7551720" y="2435400"/>
                    <a:ext cx="105408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7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9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500"/>
                            </p:stCondLst>
                            <p:childTnLst>
                              <p:par>
                                <p:cTn id="1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98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6284880" y="534528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984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957400" y="4092480"/>
            <a:ext cx="865440" cy="405000"/>
            <a:chOff x="2957400" y="4092480"/>
            <a:chExt cx="865440" cy="405000"/>
          </a:xfrm>
        </p:grpSpPr>
        <p:pic>
          <p:nvPicPr>
            <p:cNvPr id="991" name="" descr=""/>
            <p:cNvPicPr/>
            <p:nvPr/>
          </p:nvPicPr>
          <p:blipFill>
            <a:blip r:embed="rId5"/>
            <a:stretch/>
          </p:blipFill>
          <p:spPr>
            <a:xfrm>
              <a:off x="2957400" y="4092480"/>
              <a:ext cx="3891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" descr=""/>
            <p:cNvPicPr/>
            <p:nvPr/>
          </p:nvPicPr>
          <p:blipFill>
            <a:blip r:embed="rId6"/>
            <a:stretch/>
          </p:blipFill>
          <p:spPr>
            <a:xfrm>
              <a:off x="3433680" y="4108680"/>
              <a:ext cx="389160" cy="3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">
            <a:hlinkClick r:id="rId7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22280" y="85572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lve the equation                                          for  0 ≤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≤ 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5" name=""/>
          <p:cNvGraphicFramePr/>
          <p:nvPr/>
        </p:nvGraphicFramePr>
        <p:xfrm>
          <a:off x="2278080" y="717480"/>
          <a:ext cx="1744560" cy="63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78080" y="717480"/>
                    <a:ext cx="17445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7" name=""/>
          <p:cNvSpPr/>
          <p:nvPr/>
        </p:nvSpPr>
        <p:spPr>
          <a:xfrm>
            <a:off x="479520" y="1800360"/>
            <a:ext cx="133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r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79520" y="263520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acu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9" name=""/>
          <p:cNvGraphicFramePr/>
          <p:nvPr/>
        </p:nvGraphicFramePr>
        <p:xfrm>
          <a:off x="2392200" y="2503440"/>
          <a:ext cx="1816200" cy="639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0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92200" y="2503440"/>
                    <a:ext cx="18162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1" name=""/>
          <p:cNvSpPr/>
          <p:nvPr/>
        </p:nvSpPr>
        <p:spPr>
          <a:xfrm>
            <a:off x="473040" y="4048200"/>
            <a:ext cx="2048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05520" y="14479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3019320" y="3840120"/>
            <a:ext cx="846000" cy="1338120"/>
            <a:chOff x="3019320" y="3840120"/>
            <a:chExt cx="846000" cy="1338120"/>
          </a:xfrm>
        </p:grpSpPr>
        <p:sp>
          <p:nvSpPr>
            <p:cNvPr id="1004" name=""/>
            <p:cNvSpPr/>
            <p:nvPr/>
          </p:nvSpPr>
          <p:spPr>
            <a:xfrm>
              <a:off x="3387600" y="401616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019320" y="452268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55720" y="38401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039840" y="38401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564000" y="49035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045960" y="4903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338800" y="4006800"/>
            <a:ext cx="33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 are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2362320" y="1650960"/>
          <a:ext cx="1660320" cy="698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62320" y="1650960"/>
                    <a:ext cx="16603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5" name=""/>
          <p:cNvGraphicFramePr/>
          <p:nvPr/>
        </p:nvGraphicFramePr>
        <p:xfrm>
          <a:off x="5425920" y="1989000"/>
          <a:ext cx="1281240" cy="6098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1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425920" y="1989000"/>
                    <a:ext cx="1281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7" name=""/>
          <p:cNvGraphicFramePr/>
          <p:nvPr/>
        </p:nvGraphicFramePr>
        <p:xfrm>
          <a:off x="7267680" y="1960560"/>
          <a:ext cx="1403280" cy="612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1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267680" y="1960560"/>
                    <a:ext cx="1403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9" name=""/>
          <p:cNvSpPr/>
          <p:nvPr/>
        </p:nvSpPr>
        <p:spPr>
          <a:xfrm>
            <a:off x="479520" y="3352680"/>
            <a:ext cx="1160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 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2135160" y="3398760"/>
          <a:ext cx="2827440" cy="330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2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135160" y="3398760"/>
                    <a:ext cx="28274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2" name=""/>
          <p:cNvGraphicFramePr/>
          <p:nvPr/>
        </p:nvGraphicFramePr>
        <p:xfrm>
          <a:off x="5391000" y="2744640"/>
          <a:ext cx="2559240" cy="3304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023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391000" y="2744640"/>
                    <a:ext cx="25592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4" name=""/>
          <p:cNvGraphicFramePr/>
          <p:nvPr/>
        </p:nvGraphicFramePr>
        <p:xfrm>
          <a:off x="5375160" y="3174840"/>
          <a:ext cx="1498680" cy="6098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025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75160" y="3174840"/>
                    <a:ext cx="14986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6" name=""/>
          <p:cNvGraphicFramePr/>
          <p:nvPr/>
        </p:nvGraphicFramePr>
        <p:xfrm>
          <a:off x="7246800" y="3160800"/>
          <a:ext cx="1500480" cy="6127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246800" y="3160800"/>
                    <a:ext cx="15004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8" name=""/>
          <p:cNvGraphicFramePr/>
          <p:nvPr/>
        </p:nvGraphicFramePr>
        <p:xfrm>
          <a:off x="5392800" y="4525920"/>
          <a:ext cx="2344680" cy="65880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029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392800" y="4525920"/>
                    <a:ext cx="2344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0" name=""/>
          <p:cNvGraphicFramePr/>
          <p:nvPr/>
        </p:nvGraphicFramePr>
        <p:xfrm>
          <a:off x="5383080" y="1600200"/>
          <a:ext cx="2084400" cy="3301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83080" y="1600200"/>
                    <a:ext cx="20844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2" name="" descr=""/>
          <p:cNvPicPr/>
          <p:nvPr/>
        </p:nvPicPr>
        <p:blipFill>
          <a:blip r:embed="rId32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9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4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500"/>
                            </p:stCondLst>
                            <p:childTnLst>
                              <p:par>
                                <p:cTn id="1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3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035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7" name="" descr=""/>
          <p:cNvPicPr/>
          <p:nvPr/>
        </p:nvPicPr>
        <p:blipFill>
          <a:blip r:embed="rId2"/>
          <a:stretch/>
        </p:blipFill>
        <p:spPr>
          <a:xfrm>
            <a:off x="6353280" y="46911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038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>
            <a:hlinkClick r:id="rId5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80880" y="838080"/>
            <a:ext cx="83883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)   Write the equation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2</a:t>
            </a:r>
            <a:r>
              <a:rPr b="0" i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8 cos </a:t>
            </a:r>
            <a:r>
              <a:rPr b="0" i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9 = 0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in terms of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</a:t>
            </a:r>
            <a:r>
              <a:rPr b="0" i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how that for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</a:t>
            </a:r>
            <a:r>
              <a:rPr b="0" i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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it has equal roo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)   Show that there are no real roots for </a:t>
            </a:r>
            <a:r>
              <a:rPr b="0" i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79520" y="2971800"/>
            <a:ext cx="133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r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57200" y="359568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vide b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57200" y="4930920"/>
            <a:ext cx="1143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1752480"/>
            <a:ext cx="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57200" y="4267080"/>
            <a:ext cx="1160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cto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2133720" y="4191120"/>
          <a:ext cx="2538360" cy="412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33720" y="4191120"/>
                    <a:ext cx="25383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3" name=""/>
          <p:cNvSpPr/>
          <p:nvPr/>
        </p:nvSpPr>
        <p:spPr>
          <a:xfrm>
            <a:off x="457200" y="2376360"/>
            <a:ext cx="2019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plac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s 2</a:t>
            </a:r>
            <a:r>
              <a:rPr b="0" i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4" name=""/>
          <p:cNvGraphicFramePr/>
          <p:nvPr/>
        </p:nvGraphicFramePr>
        <p:xfrm>
          <a:off x="2743200" y="2376360"/>
          <a:ext cx="2000160" cy="330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43200" y="2376360"/>
                    <a:ext cx="20001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6" name=""/>
          <p:cNvGraphicFramePr/>
          <p:nvPr/>
        </p:nvGraphicFramePr>
        <p:xfrm>
          <a:off x="2362320" y="2997360"/>
          <a:ext cx="2392200" cy="330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5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62320" y="2997360"/>
                    <a:ext cx="23922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8" name=""/>
          <p:cNvGraphicFramePr/>
          <p:nvPr/>
        </p:nvGraphicFramePr>
        <p:xfrm>
          <a:off x="2438280" y="3595680"/>
          <a:ext cx="226872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5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38280" y="3595680"/>
                    <a:ext cx="22687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0" name=""/>
          <p:cNvSpPr/>
          <p:nvPr/>
        </p:nvSpPr>
        <p:spPr>
          <a:xfrm>
            <a:off x="2193480" y="4862520"/>
            <a:ext cx="219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Equal roots f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co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410080" y="2362320"/>
            <a:ext cx="1295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y to sol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5486400" y="2895480"/>
          <a:ext cx="1671480" cy="412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6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86400" y="2895480"/>
                    <a:ext cx="1671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4" name=""/>
          <p:cNvGraphicFramePr/>
          <p:nvPr/>
        </p:nvGraphicFramePr>
        <p:xfrm>
          <a:off x="5562720" y="3581280"/>
          <a:ext cx="1073160" cy="289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6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562720" y="3581280"/>
                    <a:ext cx="107316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6" name=""/>
          <p:cNvSpPr/>
          <p:nvPr/>
        </p:nvSpPr>
        <p:spPr>
          <a:xfrm>
            <a:off x="5317560" y="4113360"/>
            <a:ext cx="34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nce there are no real solutions for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862680" y="354816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sol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18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5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5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500"/>
                            </p:stCondLst>
                            <p:childTnLst>
                              <p:par>
                                <p:cTn id="1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412920" y="882720"/>
            <a:ext cx="81864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lve algebraically, the equation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   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3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07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4" name="" descr=""/>
          <p:cNvPicPr/>
          <p:nvPr/>
        </p:nvPicPr>
        <p:blipFill>
          <a:blip r:embed="rId2"/>
          <a:stretch/>
        </p:blipFill>
        <p:spPr>
          <a:xfrm>
            <a:off x="6966000" y="50925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075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1" name="" descr=""/>
          <p:cNvPicPr/>
          <p:nvPr/>
        </p:nvPicPr>
        <p:blipFill>
          <a:blip r:embed="rId5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pic>
        <p:nvPicPr>
          <p:cNvPr id="108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>
            <a:hlinkClick r:id="rId8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615000" y="1612800"/>
            <a:ext cx="19656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etermine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for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86680" y="1617840"/>
            <a:ext cx="0" cy="31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7281720" y="2368440"/>
            <a:ext cx="846000" cy="1338120"/>
            <a:chOff x="7281720" y="2368440"/>
            <a:chExt cx="846000" cy="1338120"/>
          </a:xfrm>
        </p:grpSpPr>
        <p:sp>
          <p:nvSpPr>
            <p:cNvPr id="1088" name=""/>
            <p:cNvSpPr/>
            <p:nvPr/>
          </p:nvSpPr>
          <p:spPr>
            <a:xfrm>
              <a:off x="7650000" y="254448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281720" y="30510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818120" y="23684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302240" y="23684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826400" y="3431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308360" y="34318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94" name=""/>
          <p:cNvGraphicFramePr/>
          <p:nvPr/>
        </p:nvGraphicFramePr>
        <p:xfrm>
          <a:off x="6989760" y="3859200"/>
          <a:ext cx="1430280" cy="297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89760" y="3859200"/>
                    <a:ext cx="143028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6" name=""/>
          <p:cNvSpPr/>
          <p:nvPr/>
        </p:nvSpPr>
        <p:spPr>
          <a:xfrm>
            <a:off x="463680" y="2301840"/>
            <a:ext cx="158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on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50720" y="1649520"/>
            <a:ext cx="1582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plac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 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8" name=""/>
          <p:cNvGraphicFramePr/>
          <p:nvPr/>
        </p:nvGraphicFramePr>
        <p:xfrm>
          <a:off x="2224080" y="1682640"/>
          <a:ext cx="2249640" cy="289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24080" y="1682640"/>
                    <a:ext cx="224964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0" name=""/>
          <p:cNvGraphicFramePr/>
          <p:nvPr/>
        </p:nvGraphicFramePr>
        <p:xfrm>
          <a:off x="2290680" y="2274840"/>
          <a:ext cx="2063880" cy="41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90680" y="2274840"/>
                    <a:ext cx="20638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2" name=""/>
          <p:cNvSpPr/>
          <p:nvPr/>
        </p:nvSpPr>
        <p:spPr>
          <a:xfrm>
            <a:off x="460440" y="2917800"/>
            <a:ext cx="861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3" name=""/>
          <p:cNvGraphicFramePr/>
          <p:nvPr/>
        </p:nvGraphicFramePr>
        <p:xfrm>
          <a:off x="2100240" y="2927520"/>
          <a:ext cx="3425760" cy="866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0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00240" y="2927520"/>
                    <a:ext cx="342576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5" name=""/>
          <p:cNvSpPr/>
          <p:nvPr/>
        </p:nvSpPr>
        <p:spPr>
          <a:xfrm>
            <a:off x="447840" y="3981600"/>
            <a:ext cx="12855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6" name=""/>
          <p:cNvGraphicFramePr/>
          <p:nvPr/>
        </p:nvGraphicFramePr>
        <p:xfrm>
          <a:off x="2089080" y="4011480"/>
          <a:ext cx="2517840" cy="330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0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89080" y="4011480"/>
                    <a:ext cx="25178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8" name=""/>
          <p:cNvGraphicFramePr/>
          <p:nvPr/>
        </p:nvGraphicFramePr>
        <p:xfrm>
          <a:off x="2073240" y="4422600"/>
          <a:ext cx="2683080" cy="516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0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73240" y="4422600"/>
                    <a:ext cx="2683080" cy="5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0" name=""/>
          <p:cNvGrpSpPr/>
          <p:nvPr/>
        </p:nvGrpSpPr>
        <p:grpSpPr>
          <a:xfrm>
            <a:off x="7223040" y="2627280"/>
            <a:ext cx="404640" cy="840960"/>
            <a:chOff x="7223040" y="2627280"/>
            <a:chExt cx="404640" cy="840960"/>
          </a:xfrm>
        </p:grpSpPr>
        <p:pic>
          <p:nvPicPr>
            <p:cNvPr id="1111" name="" descr=""/>
            <p:cNvPicPr/>
            <p:nvPr/>
          </p:nvPicPr>
          <p:blipFill>
            <a:blip r:embed="rId21"/>
            <a:stretch/>
          </p:blipFill>
          <p:spPr>
            <a:xfrm>
              <a:off x="7238880" y="262728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" descr=""/>
            <p:cNvPicPr/>
            <p:nvPr/>
          </p:nvPicPr>
          <p:blipFill>
            <a:blip r:embed="rId22"/>
            <a:stretch/>
          </p:blipFill>
          <p:spPr>
            <a:xfrm>
              <a:off x="7223040" y="3079440"/>
              <a:ext cx="388800" cy="3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"/>
          <p:cNvSpPr/>
          <p:nvPr/>
        </p:nvSpPr>
        <p:spPr>
          <a:xfrm>
            <a:off x="4004280" y="515160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°,  120°,  240°, 360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0" dur="indefinite" restart="never" nodeType="tmRoot">
          <p:childTnLst>
            <p:seq>
              <p:cTn id="1841" dur="indefinite" nodeType="mainSeq">
                <p:childTnLst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6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6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1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1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1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6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1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1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500"/>
                            </p:stCondLst>
                            <p:childTnLst>
                              <p:par>
                                <p:cTn id="19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412920" y="882720"/>
            <a:ext cx="81864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ind the exact solutions  of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s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   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117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9" name="" descr=""/>
          <p:cNvPicPr/>
          <p:nvPr/>
        </p:nvPicPr>
        <p:blipFill>
          <a:blip r:embed="rId2"/>
          <a:stretch/>
        </p:blipFill>
        <p:spPr>
          <a:xfrm>
            <a:off x="6597720" y="479268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120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5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>
            <a:hlinkClick r:id="rId8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640" y="3836880"/>
            <a:ext cx="2921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quadrants for  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1030320" y="4307040"/>
            <a:ext cx="846000" cy="1338120"/>
            <a:chOff x="1030320" y="4307040"/>
            <a:chExt cx="846000" cy="1338120"/>
          </a:xfrm>
        </p:grpSpPr>
        <p:sp>
          <p:nvSpPr>
            <p:cNvPr id="1132" name=""/>
            <p:cNvSpPr/>
            <p:nvPr/>
          </p:nvSpPr>
          <p:spPr>
            <a:xfrm>
              <a:off x="1398600" y="448308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030320" y="49896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566720" y="43070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050840" y="43070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575000" y="53704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056960" y="53704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463680" y="2301840"/>
            <a:ext cx="1842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ake square roo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50720" y="1649520"/>
            <a:ext cx="1582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r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2843280" y="1569960"/>
          <a:ext cx="1011240" cy="51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43280" y="1569960"/>
                    <a:ext cx="10112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2" name=""/>
          <p:cNvGraphicFramePr/>
          <p:nvPr/>
        </p:nvGraphicFramePr>
        <p:xfrm>
          <a:off x="2816280" y="2276640"/>
          <a:ext cx="1093680" cy="5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6280" y="2276640"/>
                    <a:ext cx="10936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4" name=""/>
          <p:cNvSpPr/>
          <p:nvPr/>
        </p:nvSpPr>
        <p:spPr>
          <a:xfrm>
            <a:off x="460440" y="3067200"/>
            <a:ext cx="1762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acute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930240" y="4551480"/>
            <a:ext cx="404640" cy="840960"/>
            <a:chOff x="930240" y="4551480"/>
            <a:chExt cx="404640" cy="840960"/>
          </a:xfrm>
        </p:grpSpPr>
        <p:pic>
          <p:nvPicPr>
            <p:cNvPr id="1146" name="" descr=""/>
            <p:cNvPicPr/>
            <p:nvPr/>
          </p:nvPicPr>
          <p:blipFill>
            <a:blip r:embed="rId13"/>
            <a:stretch/>
          </p:blipFill>
          <p:spPr>
            <a:xfrm>
              <a:off x="946080" y="455148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" descr=""/>
            <p:cNvPicPr/>
            <p:nvPr/>
          </p:nvPicPr>
          <p:blipFill>
            <a:blip r:embed="rId14"/>
            <a:stretch/>
          </p:blipFill>
          <p:spPr>
            <a:xfrm>
              <a:off x="930240" y="5003640"/>
              <a:ext cx="3888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48" name=""/>
          <p:cNvGraphicFramePr/>
          <p:nvPr/>
        </p:nvGraphicFramePr>
        <p:xfrm>
          <a:off x="2760840" y="3014640"/>
          <a:ext cx="1155600" cy="515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60840" y="3014640"/>
                    <a:ext cx="11556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0" name=""/>
          <p:cNvGrpSpPr/>
          <p:nvPr/>
        </p:nvGrpSpPr>
        <p:grpSpPr>
          <a:xfrm>
            <a:off x="1447920" y="4551480"/>
            <a:ext cx="404640" cy="840960"/>
            <a:chOff x="1447920" y="4551480"/>
            <a:chExt cx="404640" cy="840960"/>
          </a:xfrm>
        </p:grpSpPr>
        <p:pic>
          <p:nvPicPr>
            <p:cNvPr id="1151" name="" descr=""/>
            <p:cNvPicPr/>
            <p:nvPr/>
          </p:nvPicPr>
          <p:blipFill>
            <a:blip r:embed="rId17"/>
            <a:stretch/>
          </p:blipFill>
          <p:spPr>
            <a:xfrm>
              <a:off x="1463760" y="455148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" descr=""/>
            <p:cNvPicPr/>
            <p:nvPr/>
          </p:nvPicPr>
          <p:blipFill>
            <a:blip r:embed="rId18"/>
            <a:stretch/>
          </p:blipFill>
          <p:spPr>
            <a:xfrm>
              <a:off x="1447920" y="5003640"/>
              <a:ext cx="388800" cy="3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3" name=""/>
          <p:cNvSpPr/>
          <p:nvPr/>
        </p:nvSpPr>
        <p:spPr>
          <a:xfrm>
            <a:off x="3638160" y="3824280"/>
            <a:ext cx="45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+ and – from the square root requires all 4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4" name=""/>
          <p:cNvGraphicFramePr/>
          <p:nvPr/>
        </p:nvGraphicFramePr>
        <p:xfrm>
          <a:off x="3038400" y="4678200"/>
          <a:ext cx="3259080" cy="758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5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38400" y="4678200"/>
                    <a:ext cx="32590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1" dur="indefinite" restart="never" nodeType="tmRoot">
          <p:childTnLst>
            <p:seq>
              <p:cTn id="1922" dur="indefinite" nodeType="mainSeq">
                <p:childTnLst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2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3" fill="hold">
                            <p:stCondLst>
                              <p:cond delay="500"/>
                            </p:stCondLst>
                            <p:childTnLst>
                              <p:par>
                                <p:cTn id="1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6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500"/>
                            </p:stCondLst>
                            <p:childTnLst>
                              <p:par>
                                <p:cTn id="1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15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0" name="" descr=""/>
          <p:cNvPicPr/>
          <p:nvPr/>
        </p:nvPicPr>
        <p:blipFill>
          <a:blip r:embed="rId2"/>
          <a:stretch/>
        </p:blipFill>
        <p:spPr>
          <a:xfrm>
            <a:off x="6818400" y="50864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161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6556320" y="3073320"/>
            <a:ext cx="399960" cy="851040"/>
            <a:chOff x="6556320" y="3073320"/>
            <a:chExt cx="399960" cy="851040"/>
          </a:xfrm>
        </p:grpSpPr>
        <p:pic>
          <p:nvPicPr>
            <p:cNvPr id="1168" name="" descr=""/>
            <p:cNvPicPr/>
            <p:nvPr/>
          </p:nvPicPr>
          <p:blipFill>
            <a:blip r:embed="rId5"/>
            <a:stretch/>
          </p:blipFill>
          <p:spPr>
            <a:xfrm>
              <a:off x="6556320" y="353556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9" name="" descr=""/>
            <p:cNvPicPr/>
            <p:nvPr/>
          </p:nvPicPr>
          <p:blipFill>
            <a:blip r:embed="rId6"/>
            <a:stretch/>
          </p:blipFill>
          <p:spPr>
            <a:xfrm>
              <a:off x="6567480" y="3073320"/>
              <a:ext cx="388800" cy="38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0" name="">
            <a:hlinkClick r:id="rId7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22280" y="85572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lve the equation                                                           for  0 ≤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≤ 36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2682720" y="888840"/>
          <a:ext cx="1806840" cy="314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82720" y="888840"/>
                    <a:ext cx="1806840" cy="3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4" name=""/>
          <p:cNvSpPr/>
          <p:nvPr/>
        </p:nvSpPr>
        <p:spPr>
          <a:xfrm>
            <a:off x="479520" y="1585800"/>
            <a:ext cx="2019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place cos 2x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5" name=""/>
          <p:cNvGraphicFramePr/>
          <p:nvPr/>
        </p:nvGraphicFramePr>
        <p:xfrm>
          <a:off x="2655720" y="1585800"/>
          <a:ext cx="1979640" cy="330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7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55720" y="1585800"/>
                    <a:ext cx="19796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7" name=""/>
          <p:cNvSpPr/>
          <p:nvPr/>
        </p:nvSpPr>
        <p:spPr>
          <a:xfrm>
            <a:off x="479520" y="216684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8" name=""/>
          <p:cNvGraphicFramePr/>
          <p:nvPr/>
        </p:nvGraphicFramePr>
        <p:xfrm>
          <a:off x="2530440" y="2182680"/>
          <a:ext cx="2187720" cy="330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7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30440" y="2182680"/>
                    <a:ext cx="218772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0" name=""/>
          <p:cNvSpPr/>
          <p:nvPr/>
        </p:nvSpPr>
        <p:spPr>
          <a:xfrm>
            <a:off x="479520" y="273384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9520" y="336240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cto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2" name=""/>
          <p:cNvGraphicFramePr/>
          <p:nvPr/>
        </p:nvGraphicFramePr>
        <p:xfrm>
          <a:off x="2357280" y="3335400"/>
          <a:ext cx="2578320" cy="412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57280" y="3335400"/>
                    <a:ext cx="25783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479520" y="392760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5" name=""/>
          <p:cNvGraphicFramePr/>
          <p:nvPr/>
        </p:nvGraphicFramePr>
        <p:xfrm>
          <a:off x="2508120" y="3836880"/>
          <a:ext cx="949320" cy="515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8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508120" y="3836880"/>
                    <a:ext cx="9493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7" name=""/>
          <p:cNvSpPr/>
          <p:nvPr/>
        </p:nvSpPr>
        <p:spPr>
          <a:xfrm>
            <a:off x="479520" y="452124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acu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8" name=""/>
          <p:cNvGraphicFramePr/>
          <p:nvPr/>
        </p:nvGraphicFramePr>
        <p:xfrm>
          <a:off x="2362320" y="4545000"/>
          <a:ext cx="1258920" cy="330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8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362320" y="4545000"/>
                    <a:ext cx="1258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0" name=""/>
          <p:cNvSpPr/>
          <p:nvPr/>
        </p:nvSpPr>
        <p:spPr>
          <a:xfrm>
            <a:off x="5907240" y="1620720"/>
            <a:ext cx="2047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5689440" y="2006640"/>
            <a:ext cx="12960" cy="28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6130800" y="2833560"/>
            <a:ext cx="846000" cy="1338120"/>
            <a:chOff x="6130800" y="2833560"/>
            <a:chExt cx="846000" cy="1338120"/>
          </a:xfrm>
        </p:grpSpPr>
        <p:sp>
          <p:nvSpPr>
            <p:cNvPr id="1193" name=""/>
            <p:cNvSpPr/>
            <p:nvPr/>
          </p:nvSpPr>
          <p:spPr>
            <a:xfrm>
              <a:off x="6499080" y="300960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130800" y="35161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667200" y="28335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151320" y="28335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675480" y="38970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157440" y="38970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99" name=""/>
          <p:cNvGraphicFramePr/>
          <p:nvPr/>
        </p:nvGraphicFramePr>
        <p:xfrm>
          <a:off x="3753000" y="3938760"/>
          <a:ext cx="1052280" cy="288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0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753000" y="3938760"/>
                    <a:ext cx="105228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1" name=""/>
          <p:cNvGraphicFramePr/>
          <p:nvPr/>
        </p:nvGraphicFramePr>
        <p:xfrm>
          <a:off x="3863880" y="4540320"/>
          <a:ext cx="887400" cy="288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20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863880" y="4540320"/>
                    <a:ext cx="88740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3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1204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6056280" y="2009880"/>
          <a:ext cx="735120" cy="399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206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6056280" y="2009880"/>
                    <a:ext cx="7351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7" name=""/>
          <p:cNvGraphicFramePr/>
          <p:nvPr/>
        </p:nvGraphicFramePr>
        <p:xfrm>
          <a:off x="6022800" y="4214880"/>
          <a:ext cx="900360" cy="6382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208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6022800" y="4214880"/>
                    <a:ext cx="9003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9" name=""/>
          <p:cNvSpPr/>
          <p:nvPr/>
        </p:nvSpPr>
        <p:spPr>
          <a:xfrm>
            <a:off x="1663200" y="5289480"/>
            <a:ext cx="43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 are:  x= 60°, 180° and 30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0" name=""/>
          <p:cNvGraphicFramePr/>
          <p:nvPr/>
        </p:nvGraphicFramePr>
        <p:xfrm>
          <a:off x="6033960" y="2432160"/>
          <a:ext cx="1052640" cy="2761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211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6033960" y="2432160"/>
                    <a:ext cx="105264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2" name=""/>
          <p:cNvGraphicFramePr/>
          <p:nvPr/>
        </p:nvGraphicFramePr>
        <p:xfrm>
          <a:off x="2530440" y="2743200"/>
          <a:ext cx="2187720" cy="33012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2530440" y="2743200"/>
                    <a:ext cx="21877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4" name="" descr=""/>
          <p:cNvPicPr/>
          <p:nvPr/>
        </p:nvPicPr>
        <p:blipFill>
          <a:blip r:embed="rId34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6" dur="indefinite" restart="never" nodeType="tmRoot">
          <p:childTnLst>
            <p:seq>
              <p:cTn id="1987" dur="indefinite" nodeType="mainSeq">
                <p:childTnLst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2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7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7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2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7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2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2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7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2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7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2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7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fill="hold">
                            <p:stCondLst>
                              <p:cond delay="500"/>
                            </p:stCondLst>
                            <p:childTnLst>
                              <p:par>
                                <p:cTn id="2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1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6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1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6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500"/>
                            </p:stCondLst>
                            <p:childTnLst>
                              <p:par>
                                <p:cTn id="20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217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9" name="" descr=""/>
          <p:cNvPicPr/>
          <p:nvPr/>
        </p:nvPicPr>
        <p:blipFill>
          <a:blip r:embed="rId2"/>
          <a:stretch/>
        </p:blipFill>
        <p:spPr>
          <a:xfrm>
            <a:off x="6818400" y="50864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220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>
            <a:hlinkClick r:id="rId5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22280" y="85572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lve algebraically, the equation                                                           for  0 ≤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≤ 36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8" name=""/>
          <p:cNvGraphicFramePr/>
          <p:nvPr/>
        </p:nvGraphicFramePr>
        <p:xfrm>
          <a:off x="3422520" y="876240"/>
          <a:ext cx="2292480" cy="314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22520" y="876240"/>
                    <a:ext cx="229248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0" name=""/>
          <p:cNvSpPr/>
          <p:nvPr/>
        </p:nvSpPr>
        <p:spPr>
          <a:xfrm>
            <a:off x="479520" y="1585800"/>
            <a:ext cx="2019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place cos 2x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1" name=""/>
          <p:cNvGraphicFramePr/>
          <p:nvPr/>
        </p:nvGraphicFramePr>
        <p:xfrm>
          <a:off x="2655720" y="1585800"/>
          <a:ext cx="1979640" cy="330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3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55720" y="1585800"/>
                    <a:ext cx="19796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3" name=""/>
          <p:cNvSpPr/>
          <p:nvPr/>
        </p:nvSpPr>
        <p:spPr>
          <a:xfrm>
            <a:off x="479520" y="216684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4" name=""/>
          <p:cNvGraphicFramePr/>
          <p:nvPr/>
        </p:nvGraphicFramePr>
        <p:xfrm>
          <a:off x="2487600" y="2195640"/>
          <a:ext cx="2682720" cy="330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3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87600" y="2195640"/>
                    <a:ext cx="26827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6" name=""/>
          <p:cNvSpPr/>
          <p:nvPr/>
        </p:nvSpPr>
        <p:spPr>
          <a:xfrm>
            <a:off x="479520" y="273384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7" name=""/>
          <p:cNvGraphicFramePr/>
          <p:nvPr/>
        </p:nvGraphicFramePr>
        <p:xfrm>
          <a:off x="2460600" y="2747880"/>
          <a:ext cx="237168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3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60600" y="2747880"/>
                    <a:ext cx="23716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9" name=""/>
          <p:cNvSpPr/>
          <p:nvPr/>
        </p:nvSpPr>
        <p:spPr>
          <a:xfrm>
            <a:off x="479520" y="336240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cto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0" name=""/>
          <p:cNvGraphicFramePr/>
          <p:nvPr/>
        </p:nvGraphicFramePr>
        <p:xfrm>
          <a:off x="2347920" y="3335400"/>
          <a:ext cx="2598840" cy="412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47920" y="3335400"/>
                    <a:ext cx="25988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2" name=""/>
          <p:cNvSpPr/>
          <p:nvPr/>
        </p:nvSpPr>
        <p:spPr>
          <a:xfrm>
            <a:off x="479520" y="392760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3" name=""/>
          <p:cNvGraphicFramePr/>
          <p:nvPr/>
        </p:nvGraphicFramePr>
        <p:xfrm>
          <a:off x="2425680" y="3851280"/>
          <a:ext cx="949320" cy="515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4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25680" y="3851280"/>
                    <a:ext cx="9493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5" name=""/>
          <p:cNvSpPr/>
          <p:nvPr/>
        </p:nvSpPr>
        <p:spPr>
          <a:xfrm>
            <a:off x="479520" y="452124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acu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6" name=""/>
          <p:cNvGraphicFramePr/>
          <p:nvPr/>
        </p:nvGraphicFramePr>
        <p:xfrm>
          <a:off x="2317680" y="4545000"/>
          <a:ext cx="1258920" cy="330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317680" y="4545000"/>
                    <a:ext cx="1258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8" name=""/>
          <p:cNvSpPr/>
          <p:nvPr/>
        </p:nvSpPr>
        <p:spPr>
          <a:xfrm>
            <a:off x="5907240" y="1620720"/>
            <a:ext cx="2047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5689440" y="2006640"/>
            <a:ext cx="12960" cy="28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3948120" y="3952800"/>
          <a:ext cx="1073160" cy="289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948120" y="3952800"/>
                    <a:ext cx="107316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2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1253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6208560" y="2833560"/>
            <a:ext cx="846000" cy="1338120"/>
            <a:chOff x="6208560" y="2833560"/>
            <a:chExt cx="846000" cy="1338120"/>
          </a:xfrm>
        </p:grpSpPr>
        <p:sp>
          <p:nvSpPr>
            <p:cNvPr id="1255" name=""/>
            <p:cNvSpPr/>
            <p:nvPr/>
          </p:nvSpPr>
          <p:spPr>
            <a:xfrm>
              <a:off x="6576840" y="300960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208560" y="35161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744960" y="28335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29080" y="28335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53240" y="38970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35200" y="38970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61" name=""/>
          <p:cNvGraphicFramePr/>
          <p:nvPr/>
        </p:nvGraphicFramePr>
        <p:xfrm>
          <a:off x="6058080" y="2065320"/>
          <a:ext cx="798480" cy="433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262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058080" y="2065320"/>
                    <a:ext cx="7984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3" name=""/>
          <p:cNvGrpSpPr/>
          <p:nvPr/>
        </p:nvGrpSpPr>
        <p:grpSpPr>
          <a:xfrm>
            <a:off x="6622920" y="3073320"/>
            <a:ext cx="399960" cy="851040"/>
            <a:chOff x="6622920" y="3073320"/>
            <a:chExt cx="399960" cy="851040"/>
          </a:xfrm>
        </p:grpSpPr>
        <p:pic>
          <p:nvPicPr>
            <p:cNvPr id="1264" name="" descr=""/>
            <p:cNvPicPr/>
            <p:nvPr/>
          </p:nvPicPr>
          <p:blipFill>
            <a:blip r:embed="rId26"/>
            <a:stretch/>
          </p:blipFill>
          <p:spPr>
            <a:xfrm>
              <a:off x="6622920" y="353556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" descr=""/>
            <p:cNvPicPr/>
            <p:nvPr/>
          </p:nvPicPr>
          <p:blipFill>
            <a:blip r:embed="rId27"/>
            <a:stretch/>
          </p:blipFill>
          <p:spPr>
            <a:xfrm>
              <a:off x="6634080" y="3073320"/>
              <a:ext cx="388800" cy="3891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266" name=""/>
          <p:cNvGraphicFramePr/>
          <p:nvPr/>
        </p:nvGraphicFramePr>
        <p:xfrm>
          <a:off x="6235560" y="4214880"/>
          <a:ext cx="806760" cy="6382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267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6235560" y="4214880"/>
                    <a:ext cx="806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8" name=""/>
          <p:cNvSpPr/>
          <p:nvPr/>
        </p:nvSpPr>
        <p:spPr>
          <a:xfrm>
            <a:off x="2701080" y="5262480"/>
            <a:ext cx="370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 are:  x= 60° and 30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5996160" y="2503440"/>
          <a:ext cx="1054080" cy="2761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270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996160" y="2503440"/>
                    <a:ext cx="105408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1" name=""/>
          <p:cNvSpPr/>
          <p:nvPr/>
        </p:nvSpPr>
        <p:spPr>
          <a:xfrm>
            <a:off x="3840480" y="451152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card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1" dur="indefinite" restart="never" nodeType="tmRoot">
          <p:childTnLst>
            <p:seq>
              <p:cTn id="2102" dur="indefinite" nodeType="mainSeq">
                <p:childTnLst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7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7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2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7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2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7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2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7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2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2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2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500"/>
                            </p:stCondLst>
                            <p:childTnLst>
                              <p:par>
                                <p:cTn id="2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6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0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9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9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3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405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is split into two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371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mpound angle formula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247920"/>
            <a:ext cx="19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ct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397656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ing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921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oose by clicking on the appropriate butt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65480" y="3214800"/>
            <a:ext cx="549360" cy="536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65480" y="3948120"/>
            <a:ext cx="5493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>
            <a:hlinkClick r:id="" action="ppaction://hlinkshowjump?jump=previousslide"/>
            <a:hlinkClick r:id="rId1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0" y="308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completed al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questions in this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>
            <a:hlinkClick r:id="rId2" action="ppaction://hlinksldjump"/>
          </p:cNvPr>
          <p:cNvSpPr/>
          <p:nvPr/>
        </p:nvSpPr>
        <p:spPr>
          <a:xfrm>
            <a:off x="7450200" y="5770440"/>
            <a:ext cx="1160280" cy="341280"/>
          </a:xfrm>
          <a:custGeom>
            <a:avLst/>
            <a:gdLst>
              <a:gd name="textAreaLeft" fmla="*/ 203040 w 1160280"/>
              <a:gd name="textAreaRight" fmla="*/ 841320 w 11602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386480" y="624204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Back t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>
            <a:hlinkClick r:id="rId3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>
            <a:hlinkClick r:id="" action="ppaction://hlinkshowjump?jump=previousslide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921600" y="61578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4" name="" descr=""/>
          <p:cNvPicPr/>
          <p:nvPr/>
        </p:nvPicPr>
        <p:blipFill>
          <a:blip r:embed="rId1"/>
          <a:stretch/>
        </p:blipFill>
        <p:spPr>
          <a:xfrm>
            <a:off x="8247240" y="5889600"/>
            <a:ext cx="576000" cy="77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5" name=""/>
          <p:cNvGraphicFramePr/>
          <p:nvPr/>
        </p:nvGraphicFramePr>
        <p:xfrm>
          <a:off x="1698480" y="1682640"/>
          <a:ext cx="5827680" cy="3835440"/>
        </p:xfrm>
        <a:graphic>
          <a:graphicData uri="http://schemas.openxmlformats.org/drawingml/2006/table">
            <a:tbl>
              <a:tblPr/>
              <a:tblGrid>
                <a:gridCol w="1456920"/>
                <a:gridCol w="1456920"/>
                <a:gridCol w="1456560"/>
                <a:gridCol w="14572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6" name=""/>
          <p:cNvGraphicFramePr/>
          <p:nvPr/>
        </p:nvGraphicFramePr>
        <p:xfrm>
          <a:off x="3695760" y="2463840"/>
          <a:ext cx="312840" cy="74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95760" y="2463840"/>
                    <a:ext cx="312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8" name=""/>
          <p:cNvGraphicFramePr/>
          <p:nvPr/>
        </p:nvGraphicFramePr>
        <p:xfrm>
          <a:off x="5175360" y="2449440"/>
          <a:ext cx="312480" cy="7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75360" y="2449440"/>
                    <a:ext cx="3124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0" name=""/>
          <p:cNvGraphicFramePr/>
          <p:nvPr/>
        </p:nvGraphicFramePr>
        <p:xfrm>
          <a:off x="6599160" y="2449440"/>
          <a:ext cx="312840" cy="74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99160" y="2449440"/>
                    <a:ext cx="31284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2" name=""/>
          <p:cNvGraphicFramePr/>
          <p:nvPr/>
        </p:nvGraphicFramePr>
        <p:xfrm>
          <a:off x="6667560" y="3997440"/>
          <a:ext cx="288720" cy="74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9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67560" y="39974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4" name=""/>
          <p:cNvGraphicFramePr/>
          <p:nvPr/>
        </p:nvGraphicFramePr>
        <p:xfrm>
          <a:off x="3722760" y="3230640"/>
          <a:ext cx="288720" cy="74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9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22760" y="32306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6" name=""/>
          <p:cNvGraphicFramePr/>
          <p:nvPr/>
        </p:nvGraphicFramePr>
        <p:xfrm>
          <a:off x="6529320" y="3220920"/>
          <a:ext cx="455760" cy="77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9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29320" y="3220920"/>
                    <a:ext cx="45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8" name=""/>
          <p:cNvGraphicFramePr/>
          <p:nvPr/>
        </p:nvGraphicFramePr>
        <p:xfrm>
          <a:off x="3625920" y="4002120"/>
          <a:ext cx="455400" cy="772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9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25920" y="4002120"/>
                    <a:ext cx="4554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0" name=""/>
          <p:cNvGraphicFramePr/>
          <p:nvPr/>
        </p:nvGraphicFramePr>
        <p:xfrm>
          <a:off x="5121360" y="3219480"/>
          <a:ext cx="477720" cy="750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0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121360" y="3219480"/>
                    <a:ext cx="4777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2" name=""/>
          <p:cNvGraphicFramePr/>
          <p:nvPr/>
        </p:nvGraphicFramePr>
        <p:xfrm>
          <a:off x="5121360" y="4000680"/>
          <a:ext cx="477720" cy="750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30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21360" y="4000680"/>
                    <a:ext cx="4777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4" name=""/>
          <p:cNvGraphicFramePr/>
          <p:nvPr/>
        </p:nvGraphicFramePr>
        <p:xfrm>
          <a:off x="3666960" y="4754520"/>
          <a:ext cx="455760" cy="750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30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66960" y="4754520"/>
                    <a:ext cx="455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6" name=""/>
          <p:cNvGraphicFramePr/>
          <p:nvPr/>
        </p:nvGraphicFramePr>
        <p:xfrm>
          <a:off x="6539040" y="4842000"/>
          <a:ext cx="556920" cy="556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307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39040" y="4842000"/>
                    <a:ext cx="55692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8" name=""/>
          <p:cNvSpPr/>
          <p:nvPr/>
        </p:nvSpPr>
        <p:spPr>
          <a:xfrm>
            <a:off x="0" y="97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exac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134040" y="522144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5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38120" y="733320"/>
            <a:ext cx="616752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 is the point (8, 4). The line OA is inclined at an angle  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radians to the 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)  Find the exact values of:       i)    sin (2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)               ii)    cos (2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line OB is inclined at an angle  2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radians to the 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ax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)  Write down the exact value of the gradient of OB.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6888240" y="615960"/>
            <a:ext cx="1708200" cy="1251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6967440" y="1882800"/>
            <a:ext cx="1635120" cy="1454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01560" y="2617920"/>
            <a:ext cx="1378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aw tri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2617920"/>
            <a:ext cx="1377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ythag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16040" y="2484360"/>
          <a:ext cx="45720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6040" y="2484360"/>
                    <a:ext cx="4572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601560" y="3490920"/>
            <a:ext cx="3548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ite down values for cos p and sin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416480" y="3379680"/>
          <a:ext cx="2508120" cy="595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6480" y="3379680"/>
                    <a:ext cx="25081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01560" y="4081320"/>
            <a:ext cx="1595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n (2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406600" y="4130640"/>
          <a:ext cx="2111400" cy="289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06600" y="4130640"/>
                    <a:ext cx="211140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514760" y="4002120"/>
          <a:ext cx="3036960" cy="582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14760" y="4002120"/>
                    <a:ext cx="303696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01560" y="4699080"/>
            <a:ext cx="1595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xpand 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os (2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368440" y="4743360"/>
          <a:ext cx="2347920" cy="325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68440" y="4743360"/>
                    <a:ext cx="234792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560840" y="4627440"/>
          <a:ext cx="3424320" cy="565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560840" y="4627440"/>
                    <a:ext cx="34243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01560" y="5334120"/>
            <a:ext cx="1690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 = tan (2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08400" y="5227560"/>
          <a:ext cx="1643040" cy="595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408400" y="5227560"/>
                    <a:ext cx="16430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321080" y="5227560"/>
          <a:ext cx="1648080" cy="568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321080" y="5227560"/>
                    <a:ext cx="16480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"/>
          <p:cNvGrpSpPr/>
          <p:nvPr/>
        </p:nvGrpSpPr>
        <p:grpSpPr>
          <a:xfrm>
            <a:off x="2319480" y="2481120"/>
            <a:ext cx="1407960" cy="924840"/>
            <a:chOff x="2319480" y="2481120"/>
            <a:chExt cx="1407960" cy="924840"/>
          </a:xfrm>
        </p:grpSpPr>
        <p:grpSp>
          <p:nvGrpSpPr>
            <p:cNvPr id="105" name=""/>
            <p:cNvGrpSpPr/>
            <p:nvPr/>
          </p:nvGrpSpPr>
          <p:grpSpPr>
            <a:xfrm>
              <a:off x="2319480" y="2481120"/>
              <a:ext cx="1407960" cy="924840"/>
              <a:chOff x="2319480" y="2481120"/>
              <a:chExt cx="1407960" cy="924840"/>
            </a:xfrm>
          </p:grpSpPr>
          <p:sp>
            <p:nvSpPr>
              <p:cNvPr id="106" name=""/>
              <p:cNvSpPr/>
              <p:nvPr/>
            </p:nvSpPr>
            <p:spPr>
              <a:xfrm flipH="1">
                <a:off x="2319480" y="2481120"/>
                <a:ext cx="1131840" cy="66852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851200" y="3162240"/>
                <a:ext cx="246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481560" y="2671560"/>
                <a:ext cx="245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2691720" y="28656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992920" y="841320"/>
            <a:ext cx="2813040" cy="1619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681960" y="5877000"/>
            <a:ext cx="618840" cy="61920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" action="ppaction://hlinkshowjump?jump=nextslide"/>
            <a:hlinkClick r:id="rId4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  <a:hlinkClick r:id="rId5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38120" y="92556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 triangle ABC show that the exact valu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440" y="2239920"/>
            <a:ext cx="1716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ythag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3120" y="2881440"/>
            <a:ext cx="26226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ite down value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sin a, cos a, sin b, co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621240" y="2900520"/>
          <a:ext cx="4565520" cy="59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21240" y="2900520"/>
                    <a:ext cx="456552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01560" y="3760920"/>
            <a:ext cx="1895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n (a +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836800" y="3794040"/>
          <a:ext cx="342432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36800" y="3794040"/>
                    <a:ext cx="342432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276720" y="1263600"/>
          <a:ext cx="1831680" cy="700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1263600"/>
                    <a:ext cx="18316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681280" y="2252520"/>
          <a:ext cx="1893960" cy="34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81280" y="2252520"/>
                    <a:ext cx="1893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6413400" y="1176480"/>
            <a:ext cx="1662120" cy="352440"/>
            <a:chOff x="6413400" y="1176480"/>
            <a:chExt cx="1662120" cy="352440"/>
          </a:xfrm>
        </p:grpSpPr>
        <p:graphicFrame>
          <p:nvGraphicFramePr>
            <p:cNvPr id="136" name=""/>
            <p:cNvGraphicFramePr/>
            <p:nvPr/>
          </p:nvGraphicFramePr>
          <p:xfrm>
            <a:off x="6413400" y="1228680"/>
            <a:ext cx="335160" cy="300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413400" y="1228680"/>
                      <a:ext cx="335160" cy="30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7670880" y="1176480"/>
            <a:ext cx="40464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670880" y="1176480"/>
                      <a:ext cx="4046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0" name=""/>
          <p:cNvSpPr/>
          <p:nvPr/>
        </p:nvSpPr>
        <p:spPr>
          <a:xfrm>
            <a:off x="601560" y="4367160"/>
            <a:ext cx="1895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908440" y="4257720"/>
          <a:ext cx="3381120" cy="55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08440" y="4257720"/>
                    <a:ext cx="33811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01560" y="5105520"/>
            <a:ext cx="981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882800" y="5016600"/>
          <a:ext cx="2313000" cy="527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82800" y="5016600"/>
                    <a:ext cx="2313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408560" y="5005440"/>
          <a:ext cx="790560" cy="528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08560" y="5005440"/>
                    <a:ext cx="79056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346720" y="5018040"/>
          <a:ext cx="2330280" cy="528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346720" y="5018040"/>
                    <a:ext cx="233028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>
            <a:hlinkClick r:id="rId27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00680" y="658800"/>
            <a:ext cx="2009880" cy="1971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672160" y="50864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  <a:hlinkClick r:id="rId4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  <a:hlinkClick r:id="rId5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38120" y="925560"/>
            <a:ext cx="387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sing triangle PQR, as shown, find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act value of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2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5440" y="2097000"/>
            <a:ext cx="1716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ythag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3120" y="2738520"/>
            <a:ext cx="262260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ite down value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438360" y="2673360"/>
          <a:ext cx="3299040" cy="7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38360" y="2673360"/>
                    <a:ext cx="329904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01560" y="3689280"/>
            <a:ext cx="1895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xpand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s 2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836800" y="3652920"/>
          <a:ext cx="2813040" cy="40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36800" y="3652920"/>
                    <a:ext cx="281304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701800" y="2039760"/>
          <a:ext cx="1368720" cy="441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01800" y="2039760"/>
                    <a:ext cx="1368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209000" y="1314360"/>
          <a:ext cx="404640" cy="300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09000" y="1314360"/>
                    <a:ext cx="40464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01560" y="4410000"/>
            <a:ext cx="1895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857680" y="4194000"/>
          <a:ext cx="2846160" cy="747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57680" y="4194000"/>
                    <a:ext cx="284616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01560" y="5176800"/>
            <a:ext cx="981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031840" y="5049720"/>
          <a:ext cx="1927440" cy="630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31840" y="5049720"/>
                    <a:ext cx="192744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421160" y="5040360"/>
          <a:ext cx="933480" cy="628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21160" y="5040360"/>
                    <a:ext cx="93348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>
            <a:hlinkClick r:id="rId21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296040" y="576360"/>
            <a:ext cx="2355840" cy="2457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588000" y="50324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  <a:hlinkClick r:id="rId4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  <a:hlinkClick r:id="rId5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38120" y="925560"/>
            <a:ext cx="561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n the co-ordinate diagram shown, A is the point (6, 8)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 is the point (12, -5). Angle AOC =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nd angle COB =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ind the exact value of  sin (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5440" y="2097000"/>
            <a:ext cx="1716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ythag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3120" y="2809800"/>
            <a:ext cx="26226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ite down value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co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si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co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298680" y="2851200"/>
          <a:ext cx="4861080" cy="5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98680" y="2851200"/>
                    <a:ext cx="48610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01560" y="3689280"/>
            <a:ext cx="20448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024360" y="3720960"/>
          <a:ext cx="3838320" cy="35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24360" y="3720960"/>
                    <a:ext cx="38383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513160" y="2112840"/>
          <a:ext cx="2322360" cy="35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3160" y="2112840"/>
                    <a:ext cx="23223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601560" y="4410000"/>
            <a:ext cx="1895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560" y="5176800"/>
            <a:ext cx="981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816440" y="5141880"/>
          <a:ext cx="1644840" cy="50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16440" y="5141880"/>
                    <a:ext cx="1644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7224120" y="1278000"/>
            <a:ext cx="1188720" cy="1077120"/>
            <a:chOff x="7224120" y="1278000"/>
            <a:chExt cx="1188720" cy="1077120"/>
          </a:xfrm>
        </p:grpSpPr>
        <p:sp>
          <p:nvSpPr>
            <p:cNvPr id="213" name=""/>
            <p:cNvSpPr/>
            <p:nvPr/>
          </p:nvSpPr>
          <p:spPr>
            <a:xfrm>
              <a:off x="7224120" y="168588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Arial Narrow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22280" y="127800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Arial Narrow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19240" y="211140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75920" y="206388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Arial Narrow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020360" y="1114560"/>
            <a:ext cx="585000" cy="1459800"/>
            <a:chOff x="7020360" y="1114560"/>
            <a:chExt cx="585000" cy="1459800"/>
          </a:xfrm>
        </p:grpSpPr>
        <p:sp>
          <p:nvSpPr>
            <p:cNvPr id="218" name=""/>
            <p:cNvSpPr/>
            <p:nvPr/>
          </p:nvSpPr>
          <p:spPr>
            <a:xfrm>
              <a:off x="7020360" y="111456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Narrow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18880" y="233064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Narrow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781520" y="1633680"/>
            <a:ext cx="1716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rk up tri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068640" y="4316400"/>
          <a:ext cx="3097080" cy="539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68640" y="4316400"/>
                    <a:ext cx="30970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1967040" y="5110200"/>
          <a:ext cx="2601720" cy="539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67040" y="5110200"/>
                    <a:ext cx="2601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>
            <a:hlinkClick r:id="rId19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872400" y="5051520"/>
            <a:ext cx="618840" cy="61920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5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93560" y="2125800"/>
            <a:ext cx="1570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aw tri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94000" y="2127240"/>
            <a:ext cx="1665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ythag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3313080"/>
            <a:ext cx="15825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 sin 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436840" y="3327480"/>
          <a:ext cx="2433600" cy="33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6840" y="3327480"/>
                    <a:ext cx="2433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439560" y="731880"/>
            <a:ext cx="5923080" cy="1124640"/>
            <a:chOff x="439560" y="731880"/>
            <a:chExt cx="5923080" cy="1124640"/>
          </a:xfrm>
        </p:grpSpPr>
        <p:sp>
          <p:nvSpPr>
            <p:cNvPr id="245" name=""/>
            <p:cNvSpPr/>
            <p:nvPr/>
          </p:nvSpPr>
          <p:spPr>
            <a:xfrm>
              <a:off x="439560" y="768240"/>
              <a:ext cx="5923080" cy="10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 and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 are acute angles such that                      and                      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Find the exact value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)                             b)                          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6" name=""/>
            <p:cNvGraphicFramePr/>
            <p:nvPr/>
          </p:nvGraphicFramePr>
          <p:xfrm>
            <a:off x="3610080" y="743040"/>
            <a:ext cx="927000" cy="477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610080" y="743040"/>
                      <a:ext cx="92700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"/>
            <p:cNvGraphicFramePr/>
            <p:nvPr/>
          </p:nvGraphicFramePr>
          <p:xfrm>
            <a:off x="5014800" y="731880"/>
            <a:ext cx="984240" cy="477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014800" y="731880"/>
                      <a:ext cx="98424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0" name=""/>
            <p:cNvGraphicFramePr/>
            <p:nvPr/>
          </p:nvGraphicFramePr>
          <p:xfrm>
            <a:off x="890640" y="1531800"/>
            <a:ext cx="657000" cy="268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90640" y="1531800"/>
                      <a:ext cx="65700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2" name=""/>
            <p:cNvGraphicFramePr/>
            <p:nvPr/>
          </p:nvGraphicFramePr>
          <p:xfrm>
            <a:off x="2556000" y="1504800"/>
            <a:ext cx="695160" cy="268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556000" y="1504800"/>
                      <a:ext cx="69516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4" name=""/>
            <p:cNvGraphicFramePr/>
            <p:nvPr/>
          </p:nvGraphicFramePr>
          <p:xfrm>
            <a:off x="4159080" y="1514520"/>
            <a:ext cx="1140120" cy="307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159080" y="1514520"/>
                      <a:ext cx="1140120" cy="30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6" name=""/>
          <p:cNvGrpSpPr/>
          <p:nvPr/>
        </p:nvGrpSpPr>
        <p:grpSpPr>
          <a:xfrm>
            <a:off x="6002280" y="1062000"/>
            <a:ext cx="2928960" cy="931320"/>
            <a:chOff x="6002280" y="1062000"/>
            <a:chExt cx="2928960" cy="931320"/>
          </a:xfrm>
        </p:grpSpPr>
        <p:grpSp>
          <p:nvGrpSpPr>
            <p:cNvPr id="257" name=""/>
            <p:cNvGrpSpPr/>
            <p:nvPr/>
          </p:nvGrpSpPr>
          <p:grpSpPr>
            <a:xfrm>
              <a:off x="6002280" y="1062000"/>
              <a:ext cx="1407960" cy="924840"/>
              <a:chOff x="6002280" y="1062000"/>
              <a:chExt cx="1407960" cy="9248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6002280" y="1062000"/>
                <a:ext cx="1407960" cy="924840"/>
                <a:chOff x="6002280" y="1062000"/>
                <a:chExt cx="1407960" cy="924840"/>
              </a:xfrm>
            </p:grpSpPr>
            <p:sp>
              <p:nvSpPr>
                <p:cNvPr id="259" name=""/>
                <p:cNvSpPr/>
                <p:nvPr/>
              </p:nvSpPr>
              <p:spPr>
                <a:xfrm flipH="1">
                  <a:off x="6002280" y="1062000"/>
                  <a:ext cx="1131840" cy="668520"/>
                </a:xfrm>
                <a:prstGeom prst="rtTriangl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534000" y="1743120"/>
                  <a:ext cx="2462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Narrow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164360" y="1252440"/>
                  <a:ext cx="2458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Narrow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6389640" y="1474560"/>
                <a:ext cx="12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523280" y="1068480"/>
              <a:ext cx="1407960" cy="924840"/>
              <a:chOff x="7523280" y="1068480"/>
              <a:chExt cx="1407960" cy="9248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7523280" y="1068480"/>
                <a:ext cx="1407960" cy="924840"/>
                <a:chOff x="7523280" y="1068480"/>
                <a:chExt cx="1407960" cy="924840"/>
              </a:xfrm>
            </p:grpSpPr>
            <p:sp>
              <p:nvSpPr>
                <p:cNvPr id="265" name=""/>
                <p:cNvSpPr/>
                <p:nvPr/>
              </p:nvSpPr>
              <p:spPr>
                <a:xfrm flipH="1">
                  <a:off x="7523280" y="1068480"/>
                  <a:ext cx="1131840" cy="668520"/>
                </a:xfrm>
                <a:prstGeom prst="rtTriangl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055000" y="1749600"/>
                  <a:ext cx="2462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Narrow"/>
                    </a:rPr>
                    <a:t>1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685360" y="1258920"/>
                  <a:ext cx="2458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Narrow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7910640" y="1481400"/>
                <a:ext cx="12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" name=""/>
          <p:cNvSpPr/>
          <p:nvPr/>
        </p:nvSpPr>
        <p:spPr>
          <a:xfrm>
            <a:off x="4258440" y="214632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ypotenuses are 5 and 13 respect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539760" y="1066680"/>
            <a:ext cx="1619640" cy="270720"/>
            <a:chOff x="6539760" y="1066680"/>
            <a:chExt cx="1619640" cy="270720"/>
          </a:xfrm>
        </p:grpSpPr>
        <p:sp>
          <p:nvSpPr>
            <p:cNvPr id="271" name=""/>
            <p:cNvSpPr/>
            <p:nvPr/>
          </p:nvSpPr>
          <p:spPr>
            <a:xfrm>
              <a:off x="6539760" y="109368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72920" y="106668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 Narrow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533520" y="2743200"/>
            <a:ext cx="3316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ite down sin A, cos A, sin B, cos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3994200" y="2665440"/>
          <a:ext cx="4392720" cy="515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94200" y="2665440"/>
                    <a:ext cx="4392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925880" y="3235320"/>
          <a:ext cx="2640240" cy="515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25880" y="3235320"/>
                    <a:ext cx="26402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33520" y="3957480"/>
            <a:ext cx="15825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xpand  cos 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303640" y="3951360"/>
          <a:ext cx="2701800" cy="371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303640" y="3951360"/>
                    <a:ext cx="27018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917960" y="3798720"/>
          <a:ext cx="3835440" cy="5986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17960" y="3798720"/>
                    <a:ext cx="383544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533520" y="4595760"/>
            <a:ext cx="2004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 sin (2A +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752560" y="4581360"/>
          <a:ext cx="4310280" cy="412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752560" y="4581360"/>
                    <a:ext cx="43102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533520" y="5257800"/>
            <a:ext cx="1119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022480" y="5114880"/>
          <a:ext cx="4433760" cy="639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022480" y="5114880"/>
                    <a:ext cx="44337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6750000" y="49100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5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93560" y="2125800"/>
            <a:ext cx="1570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aw tri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94000" y="2127240"/>
            <a:ext cx="1665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ythag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456000"/>
            <a:ext cx="1950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 sin (x + 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700360" y="3470400"/>
          <a:ext cx="3979800" cy="33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0360" y="3470400"/>
                    <a:ext cx="3979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439560" y="768240"/>
            <a:ext cx="43275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f  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°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is an acute angle such that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how that the exact valu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419640" y="731880"/>
          <a:ext cx="966600" cy="4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731880"/>
                    <a:ext cx="9666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29040" y="1139760"/>
          <a:ext cx="2205000" cy="655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29040" y="1139760"/>
                    <a:ext cx="220500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2" name=""/>
          <p:cNvGrpSpPr/>
          <p:nvPr/>
        </p:nvGrpSpPr>
        <p:grpSpPr>
          <a:xfrm>
            <a:off x="7326360" y="830160"/>
            <a:ext cx="1078920" cy="1212480"/>
            <a:chOff x="7326360" y="830160"/>
            <a:chExt cx="1078920" cy="1212480"/>
          </a:xfrm>
        </p:grpSpPr>
        <p:grpSp>
          <p:nvGrpSpPr>
            <p:cNvPr id="313" name=""/>
            <p:cNvGrpSpPr/>
            <p:nvPr/>
          </p:nvGrpSpPr>
          <p:grpSpPr>
            <a:xfrm>
              <a:off x="7326360" y="830160"/>
              <a:ext cx="1078920" cy="1212480"/>
              <a:chOff x="7326360" y="830160"/>
              <a:chExt cx="1078920" cy="1212480"/>
            </a:xfrm>
          </p:grpSpPr>
          <p:sp>
            <p:nvSpPr>
              <p:cNvPr id="314" name=""/>
              <p:cNvSpPr/>
              <p:nvPr/>
            </p:nvSpPr>
            <p:spPr>
              <a:xfrm flipH="1">
                <a:off x="7326360" y="830160"/>
                <a:ext cx="867600" cy="95076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733880" y="1798920"/>
                <a:ext cx="188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18080" y="1100880"/>
                <a:ext cx="187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7577280" y="15145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4253040" y="214632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ypotenuse is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17600" y="1066680"/>
            <a:ext cx="9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 Narro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2814480"/>
            <a:ext cx="2674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ite down sin x  and  cos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451320" y="2724120"/>
          <a:ext cx="2041560" cy="515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51320" y="2724120"/>
                    <a:ext cx="20415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533520" y="4157640"/>
            <a:ext cx="1214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4995720"/>
            <a:ext cx="1268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101680" y="3976560"/>
          <a:ext cx="3299040" cy="701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01680" y="3976560"/>
                    <a:ext cx="32990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2079720" y="4795920"/>
          <a:ext cx="2782800" cy="701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79720" y="4795920"/>
                    <a:ext cx="27828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5011560" y="4809960"/>
          <a:ext cx="1608480" cy="702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11560" y="4809960"/>
                    <a:ext cx="1608480" cy="7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4:02:10Z</dcterms:created>
  <dc:creator>Derek Warburton</dc:creator>
  <dc:description/>
  <dc:language>en-US</dc:language>
  <cp:lastModifiedBy>Derek Warburton</cp:lastModifiedBy>
  <dcterms:modified xsi:type="dcterms:W3CDTF">2004-05-17T20:30:47Z</dcterms:modified>
  <cp:revision>194</cp:revision>
  <dc:subject/>
  <dc:title>PowerPoint Presentation</dc:title>
</cp:coreProperties>
</file>